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EC2-6EB1-4C01-BE9E-1D8EDC92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C21-9A6E-4FFA-BEFF-AFB1D5B7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261-8D23-4FCB-B877-27C9AD70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7D2-F1EE-4051-81F5-AF4FB54C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D7F9-225C-43FC-9543-9E04620B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08B-B55D-439C-93DC-22E289CB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BB4-D0B9-4C59-8771-D28BAEF7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7FA-7174-4A1E-B3B2-8F6C1EE0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F9D-E33E-43ED-BC07-54E2BEC8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376-FAB3-4E20-B0CE-C3347621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23D-7BF9-471B-B03F-3D55D666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961-EB13-4A77-A9CE-890801A1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BAF86-5D08-4776-8B02-6280374FB2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6360"/>
            <a:ext cx="9072360" cy="63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храна труда – это система сохранения жизни и здоровья работников в процессе трудовой деятельности, включающая в себя правовые, социально-экономические, организационно- технические, санитарно-гигиенические, лечебно-профилактические, реалибитаци- онные и иные мероприят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6380280"/>
            <a:ext cx="9072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рядок ра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ётся комиссия в составе не менее 3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специалист по охране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редставитель профсоюзного орг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редставитель работод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острадавший или его представ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ледование должно быть проведено в течение 3 дней; группового или тяжелого – 15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возмещения в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обие по временной нетрудоспособности – 100 % среднего за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диновременные страховые выплаты – 60-кратного минимального размера оплаты труда на день выпл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ата дополнительных рас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236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Главная задача охраны труда – всемерная охрана трудоспособност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60720" y="2340000"/>
            <a:ext cx="576108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трудоспособ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4680000"/>
            <a:ext cx="3240360" cy="1439640"/>
          </a:xfrm>
          <a:prstGeom prst="roundRect">
            <a:avLst>
              <a:gd name="adj" fmla="val 10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остояние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59280" y="4680000"/>
            <a:ext cx="3600720" cy="1439640"/>
          </a:xfrm>
          <a:prstGeom prst="roundRect">
            <a:avLst>
              <a:gd name="adj" fmla="val 10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оциально-профессион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знания и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517480" y="3600360"/>
            <a:ext cx="2343240" cy="10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3600360"/>
            <a:ext cx="2519280" cy="10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Условия труд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окупность факторов производственной среды и трудового процесса, оказывающих влияние на работоспособность и здоровья работ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Опасный производственный фактор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одственный фактор, воздействие которого на работника может привести к его трав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Государственные нормативные треб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жотраслевые и отраслевые правила 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овые инструкции по охране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ударственные стандарты системы стандартов безопасности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ударственные санитарно-эпидемиологические правила и нормативы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и правила имеют обязательную силу для работодателей, независимо от форм соб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Основные направления государственной поли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ение приоритета сохранения жизни и здоровья работн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ятие и реализация ФЗ в области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ударственное управление охраной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ударственный надзор и контроль за соблюдением ... нормативных требований..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йствие общественному контролю ..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ледование и учёт несчастных случаев на производстве и проф. заболеваний и т.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Работодатель обязан обеспеч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91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опасность при эксплуатации зданий, сооружений, оборудования 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ние сертифицированных средств индивидуальной и коллективной защ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знакомление работников с требованиями охраны 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ответствующие условия труда на каждом рабочем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безопасным методам и приемам выполнения работ и оказанию пер-й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ледование и учёт несчастных случа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ждый работник имеет право 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8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чее место, соответствующее О/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язательное социальное страх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ение достоверн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аз от работ, угрожающих жизн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ение средствами... защ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безопасным методам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еочередной медосмотр по рекомендации врача с сохранением среднего за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ение льгот и компенсаций за работу во вредных и опасных условиях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счастные случаи на производ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260360"/>
            <a:ext cx="9072360" cy="64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равма на производств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Если в результате несчастного случая появилась необходимость перевода работника на другую работу либо наступила  временная или стойкая утрата трудоспособности либо смерть работник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морожение, тепловой удар, отр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Укусы насекомых, пресмык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ражение электрическим 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елесные повреждения, нанесенные живо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кук куукук</dc:creator>
  <dc:description/>
  <dc:language>en-US</dc:language>
  <cp:lastModifiedBy>user</cp:lastModifiedBy>
  <dcterms:modified xsi:type="dcterms:W3CDTF">2007-10-04T06:41:05Z</dcterms:modified>
  <cp:revision>1</cp:revision>
  <dc:subject/>
  <dc:title>Охрана труда – это система сохранения жизни и здоровья работников в процессе трудовой деятельности, включающая в себя правовые, социально-экономические, организационно- технические, санитарно-гигиенические, лечебно-профилактические, реалибитаци- онные и иные мероприятия. </dc:title>
</cp:coreProperties>
</file>