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EB6-98AE-433C-8536-6092A7D8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EB5-E8F0-40F5-A34B-29B0B5D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2B6-17A5-4FD5-8826-3D88B9B2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A3F-61C8-437A-9005-C7B2D2A4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4EB-E822-4AAB-BF9A-6BA1A31D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1AB-B34E-4BA3-9797-6CC641B8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6F0-604C-4953-85B8-FD4820DC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233-66E9-4EB5-B91D-0C9F31E0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E5A-D604-412B-982D-469BF492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307-2741-47B8-A812-DAC9C6FB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81B-5356-41CD-9C51-E749216B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12F-842B-4E24-8843-54C7877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C7E-5AAB-4078-B5E7-6E448975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С.П. - это принцип взаимодействия сторон при регулировании социально-трудов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ИПАРТИЗ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трёхсторонняя модель регулирования социально-трудовых отношений: государство + работодатели + работ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ПАРТИЗ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двусторонняя модель регулирования социально-трудовых отношений на уровне организ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2.Процедура ведения коллективных перегов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дготовка проекта К.Д. и обсуждение его в структурных подраздел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Утверждение К.Д. на собрании (конференции) работников и подписание его представителями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Уведомительная регистрация в органах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Основные принципы взаимодействия сторон социального партне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людение норм законода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омочность представителей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оправие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вобода выбора и обсуждения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бровольность принятия обязательст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льность обеспечения принимаемых обязатель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тичность контроля и неотвратимость ответ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Стороны социального партне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ронами социального партнерства являются работники и работодатели в лице уполномоченных в установленном порядке представ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Уровни социального партнерства осуществляются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ом уровне (уст. основы    ре- гулирования отношений в сфере тру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региональном уровне (2 и боле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ональном – на уровне субъекта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слевом (межотраслевом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альном (муниципальное образов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кальном уров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Социальное партнерство осуществляется в фор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лективных переговоров по подготовке кол. договоров и согла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ных консультаций по вопросам регулирования трудовых отно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я работников, их представителей в управлении организаци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ешение трудовых сп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едставителями работников явл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ональные союзы и их объединения, иные профсоюзные организации, предусмотренные уставами общероссийских, межрегиональных профсоюзов, или иные представители, избираемые работ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едставителями работодателей явл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итель организации или уполномоченные им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Коллективный до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вой акт, регулирующий социально-трудовые отношения. Заключается между работниками организации и работода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Д. заключается на срок не более трёх лет, вступает в силу со дня его подпис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1.Процедура ведения коллективных перегов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ие решения о необходимости заключения К.Д. и направления письменного уведомления другой стороне о начале перегов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ние приказа, согласованного с представителем работников о формировании комиссии по коллективным переговорам, порядке и сроках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8:54:11Z</dcterms:created>
  <dc:creator>1</dc:creator>
  <dc:description/>
  <dc:language>en-US</dc:language>
  <cp:lastModifiedBy>user</cp:lastModifiedBy>
  <dcterms:modified xsi:type="dcterms:W3CDTF">2007-10-30T07:15:24Z</dcterms:modified>
  <cp:revision>12</cp:revision>
  <dc:subject/>
  <dc:title>Предметом трудового права являются  отношения, возникающие в процессе реализации  </dc:title>
</cp:coreProperties>
</file>