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08D-3FD6-4706-8394-614B0E1E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E976-66A6-4516-BEAE-5546764D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5F74-9CDA-4F85-B88D-0BC7A959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90E3-6326-443D-B4B9-1F82C5A5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A2A3-1912-4E8F-BD07-C0445DBA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31AA-4259-4A54-8E17-9E8F9467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3B53-4216-46D4-B590-2A53D671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E670-A219-4F4C-A36C-914B4E2B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F3E2-E5CE-4F83-8675-0FC4D4C8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40C9-E317-44B9-A6B0-3824AA7D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DB6C-EE7D-49AC-998B-43EABE2F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0A20-A586-4701-A511-11A6F251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A791-AA32-4EBB-B9A6-25D042F9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F066-9764-4EC6-B809-5C462D02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4600-ECCE-43B0-9B59-5155AFE6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C28E-0585-490A-B5E6-23A37696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B215-F108-4088-AEF9-C812FC12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14C0-DF87-4BBD-8CCE-2322B3DD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AA46-4A69-4B43-B40F-37BC0517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157B-26A5-4796-BC4F-5D15521B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749C-D704-4F28-91E0-B3BA33FD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C454-88A2-42C9-824E-C5F6B806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9A10-EFAD-4151-8DDA-D3E66958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9A0F-B38B-486E-8AB7-820B61D7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5B2B-7777-4D26-90B5-6AA762C9B224}" type="slidenum">
              <a:rPr b="0" lang="ru-RU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320" y="1708200"/>
            <a:ext cx="914688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2D46-0BF3-4932-8002-291BDD66039C}" type="slidenum">
              <a:rPr b="0" lang="ru-RU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1371240" y="779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 rot="10800000">
            <a:off x="4191120" y="3505320"/>
            <a:ext cx="45720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Александр Сергеевич Шилов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Зам. зав кафедрой экологии и управления природопользованием РАГС,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доктор политических наук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362320" y="761760"/>
            <a:ext cx="647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6699"/>
                </a:solidFill>
                <a:latin typeface="Arial Narrow"/>
              </a:rPr>
              <a:t>Муниципалитеты и экология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 Narrow"/>
              </a:rPr>
              <a:t>Природопользование как источник доходов муниципалитета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buClr>
                <a:srgbClr val="ff9966"/>
              </a:buClr>
              <a:buSzPct val="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Arial"/>
              </a:rPr>
              <a:t>Поиск средств представляет собой умение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а) пользоваться полномочиями, связанными с ресурсной политикой;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б) сбор налогов на природопользование;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в) разграничить федеральную и муниципальную собственность на объекты природопользования;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г)ориентировать экономику на возобновляемые местные ресурсы;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д)нацелить сознание населения на ресурсосбережение и охрану окружающей среды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CCC3-CE8D-493D-88C0-9C66DCB284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99"/>
                </a:solidFill>
                <a:latin typeface="Arial Narrow"/>
              </a:rPr>
              <a:t>Экологические вопросы местного значения</a:t>
            </a:r>
            <a:br>
              <a:rPr sz="4800"/>
            </a:br>
            <a:r>
              <a:rPr b="1" lang="ru-RU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336699"/>
                </a:solidFill>
                <a:latin typeface="Arial Narrow"/>
              </a:rPr>
              <a:t>(Федеральный закон №131-ФЗ</a:t>
            </a:r>
            <a:br>
              <a:rPr sz="3200"/>
            </a:br>
            <a:r>
              <a:rPr b="1" lang="ru-RU" sz="3200" spc="-1" strike="noStrike">
                <a:solidFill>
                  <a:srgbClr val="336699"/>
                </a:solidFill>
                <a:latin typeface="Arial Narrow"/>
              </a:rPr>
              <a:t>от 6 октября 2003 года «Об общих принципах местного самоуправления в Российской Федерации)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97180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1. Организация сбора и вывоза бытовых отходов и мусора (для поселений ст.14, п. 18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2. Организация утилизации и переработки бытовых и промышленных отходов (для муниципальных районов ст. 15, п.14)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3. Организация сбора, вывоза, утилизации и переработки бытовых отходов (для городского округа ст.16, п. 24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9B9C-9356-4DAB-B28F-ACB4D7DAC93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II.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1. Организация благоустройства и озеленения территории поселения (ст.14, п.19), городского округа (ст.16, п.25) использования, охраны, защиты, воспроизводства городских лесов, лесов особо охраняемых природных территорий, расположенных в границах муниципального образования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2. Организация мероприятий по охране окружающей среды в границах городского округа (ст.16, п.11)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5851-B4FC-4D25-8E7D-A313953FF62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520" y="60912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 Narrow"/>
              </a:rPr>
              <a:t>III.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2193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Создание, развитие и обеспечение охраны лечебно-оздоровительных местностей и курортов местного значения на территории -поселения (ст.14, п.27); муниципального района (ст. 15, п.22); городского округа (ст.16, п.22)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749E-6CA6-4FE7-A799-1635CA1505E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36699"/>
                </a:solidFill>
                <a:latin typeface="Arial Narrow"/>
              </a:rPr>
              <a:t>Федеральный закон №7-ФЗ</a:t>
            </a:r>
            <a:br>
              <a:rPr sz="3200"/>
            </a:br>
            <a:r>
              <a:rPr b="1" lang="ru-RU" sz="3200" spc="-1" strike="noStrike">
                <a:solidFill>
                  <a:srgbClr val="336699"/>
                </a:solidFill>
                <a:latin typeface="Arial Narrow"/>
              </a:rPr>
              <a:t>от 10 января 2002 года «Об охране окружающей среды»)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Arial"/>
              </a:rPr>
              <a:t>Ст. 7. Полномочия органов местного самоуправления в сфере отношений, связанных с охраной окружающей среды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олномочия органов местного самоуправления в сфере отношений, связанных с охраной окружающей среды, определяются в соответствии с федеральными законами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3339-20B6-470C-A717-E65187A5912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 Narrow"/>
              </a:rPr>
              <a:t>Федеральный закон №7-ФЗ</a:t>
            </a:r>
            <a:br>
              <a:rPr sz="3200"/>
            </a:br>
            <a:r>
              <a:rPr b="1" lang="ru-RU" sz="3200" spc="-1" strike="noStrike">
                <a:solidFill>
                  <a:srgbClr val="336699"/>
                </a:solidFill>
                <a:latin typeface="Arial Narrow"/>
              </a:rPr>
              <a:t>от 10 января 2002 года «Об охране окружающей среды»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Органы местного самоуправления обязаны принимать жалобы, заявления и предложения граждан (ст.11, п. 2) и общественных организаций (ст.12, п. 1) по вопросам касающимся охраны окружающей среды, негативного воздействия на нее и давать своевременные и обоснованные ответы, а также оказывать им содействие в реализации их прав в области охраны окружающей среды (ст.13, п.1).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CCAC-2277-402B-B3FA-C051FB659D2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 Narrow"/>
              </a:rPr>
              <a:t>Федеральный закон №7-ФЗ</a:t>
            </a:r>
            <a:br>
              <a:rPr sz="3200"/>
            </a:br>
            <a:r>
              <a:rPr b="1" lang="ru-RU" sz="3200" spc="-1" strike="noStrike">
                <a:solidFill>
                  <a:srgbClr val="336699"/>
                </a:solidFill>
                <a:latin typeface="Arial Narrow"/>
              </a:rPr>
              <a:t>от 10 января 2002 года «Об охране окружающей среды»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Обязаны принимать меры по предупреждению и устранению негативного воздействия физических факторов на окружающую среду в городских и сельских поселениях, зонах отдыха, местах обитания диких зверей и птиц, на естественные экологические системы и природные ландшафты (ст.55).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65A5-F60D-42A1-9058-07BFCEFF503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 Narrow"/>
              </a:rPr>
              <a:t>Федеральный закон №7-ФЗ</a:t>
            </a:r>
            <a:br>
              <a:rPr sz="3200"/>
            </a:br>
            <a:r>
              <a:rPr b="1" lang="ru-RU" sz="3200" spc="-1" strike="noStrike">
                <a:solidFill>
                  <a:srgbClr val="336699"/>
                </a:solidFill>
                <a:latin typeface="Arial Narrow"/>
              </a:rPr>
              <a:t>от 10 января 2002 года «Об охране окружающей среды»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1.В РФ осуществляется государственный, производственный,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муниципальный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и общественный контроль в области охраны окружающей среды (ст. 64), в целях соблюдения экологических нормативов и обеспечения экологической безопасности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2. Муниципальный экологический контроль на своей территории осуществляется органами местного самоуправления или уполномоченными ими органами (ст.68 п.1)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97B3-B189-49B0-A451-7F22E31CBC1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 Narrow"/>
              </a:rPr>
              <a:t>Федеральный закон №7-ФЗ</a:t>
            </a:r>
            <a:br>
              <a:rPr sz="3200"/>
            </a:br>
            <a:r>
              <a:rPr b="1" lang="ru-RU" sz="3200" spc="-1" strike="noStrike">
                <a:solidFill>
                  <a:srgbClr val="336699"/>
                </a:solidFill>
                <a:latin typeface="Arial Narrow"/>
              </a:rPr>
              <a:t>от 10 января 2002 года «Об охране окружающей среды»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1.Органы местного самоуправления используют данные государственного экологического мониторинга(ст. 63. п.3) для разработки местной экологической политики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2. Экологическое просвещение, в том числе информирование населения о законодательстве в области охраны окружающей среды и экологической безопасности (ст.74. п.2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87FF-DB21-496F-B7CA-AB4C9C8EAC9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5:46:23Z</dcterms:created>
  <dc:creator>A</dc:creator>
  <dc:description/>
  <dc:language>en-US</dc:language>
  <cp:lastModifiedBy>Шилов</cp:lastModifiedBy>
  <dcterms:modified xsi:type="dcterms:W3CDTF">2007-11-13T10:12:57Z</dcterms:modified>
  <cp:revision>2</cp:revision>
  <dc:subject/>
  <dc:title>Муниципалитеты и экология</dc:title>
</cp:coreProperties>
</file>