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-360" y="-11457000"/>
            <a:ext cx="360" cy="243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-11457000"/>
            <a:ext cx="1440" cy="2430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-11457000"/>
            <a:ext cx="1440" cy="2430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-11457000"/>
            <a:ext cx="1440" cy="2430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-11457000"/>
            <a:ext cx="1440" cy="2430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-11457000"/>
            <a:ext cx="1440" cy="2430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-11457000"/>
            <a:ext cx="1440" cy="2430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-11457000"/>
            <a:ext cx="1440" cy="2430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E6F3-8DB8-4FB0-9CAB-757AC135B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9085-5BCE-4C61-BC20-81292806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3639-33E7-4B17-B502-AC2FEB228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36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36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A117-9856-40BB-A5C8-8C75B7E1B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AA46-1104-456F-BBAB-A8940BC0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C809-722C-4FBE-89D1-DD93A759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5AAB-7C7A-4578-ACD7-977760A7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C844-1843-49F0-848E-97FE0E7C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BDB7-649F-4C2C-8A84-F8DAC605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835C-1CF7-43D7-8122-FB794143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3F80-3826-418E-9DE1-2C1CC842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947F-7003-494E-9B51-D292DF1C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EEC10-03C9-49FE-A376-1F0704CE5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Понятие рабочего врем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24000" y="1628640"/>
            <a:ext cx="8496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Рабочее время – время в течение которого работник… должен исполнять трудовые обязанности. (Ст.9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DFC5-1D1A-4C53-B00E-FFC8FF7B2DC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Отпуск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44480"/>
            <a:ext cx="8229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Ежегодные основные отпу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ежегодные дополнительные отпу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отпуска без сохранения заработной пл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5D65-B127-4762-B23F-E882F480A5D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46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Ежегодный основной оплачиваемый отпуск предоставляется работникам продолжительностью 28 календарных дн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5400720"/>
            <a:ext cx="822816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0E23-27E1-492B-9898-689E188978A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Ежегодный дополнительный оплачиваемый отпус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 вредные или опасные условия труда  (включается только фактически отработанное в соответствующих условиях время)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 ненормированный рабочий ден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51A7-7A52-43FC-B407-8E5C97052A0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1120" y="101160"/>
            <a:ext cx="8228160" cy="17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Исчисление продолжительности отпус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160720"/>
            <a:ext cx="8228160" cy="38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должительность ежегодных основного и дополнительных оплачиваемых отпусков исчисляется в календарных днях и максимальным пределом не ограничив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F5B9-8970-4E44-B17F-CBA28A85C19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В стаж работы, дающего право на   отпуск включаютс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емя фактическ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емя, когда работник фактически не работал, но за ним сохранялось рабочее место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емя вынужденного прогула при незаконном увольнении или отстране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27B0-6BA9-48BF-B5C9-330D0B8CD02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В стаж работы, дающего право на  отпуск не включаютс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емя отсутствия работника на работе без уважительных пр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емя отпусков по уходу за ребенком до достижения им установленного законом возра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емя предоставления по просьбе работника отпусков без сохранения з/п, если их общая продолжительность превышает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алендарных дней в течение рабочего г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BF26-778B-450C-B951-DC5B4394C3B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47880"/>
            <a:ext cx="822816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Оплачиваемый отпуск должен предоставляться ежегодно ст.1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11120" y="2160360"/>
            <a:ext cx="8228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о на отпуск возникает по истечении шести месяцев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соглашению сторон оплачиваемый отпуск может быть предоставлен и до истечения шести меся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1F87-7C03-4178-8C49-CCF3CB488C9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73160"/>
            <a:ext cx="822636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Очередность предоставления ежегодных  отпус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чередность  определяется в соответствии с графиком отпус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афик обязателен как для работодателя, так и для работника. О времени начала отпуска работник должен быть извещен под росп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дельным категориям работников отпуск предоставляется в удобное для них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6107-70C4-41BD-9B84-B370698A972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73160"/>
            <a:ext cx="822636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Продление или перенесение ежегодного отпуска в случа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еменной нетрудоспособ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полнение государственных обязан-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не были своевременно выплачены отпускные (не позднее 3-х дней до начала отпуска), предупрежден о начале  отпуска позднее чем за две недели, то работодатель по письменному заявлению работника обязан перенести  отпуск на другой срок, согласованный с работник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1C9B-BB99-4AB1-9423-2F039BDF8DB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73160"/>
            <a:ext cx="822636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Перенесение отпуска по решению работодател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исключительных случаях допускается с согласия работника перенесение отпуска на следующий рабочий год. При этом отпуск должен быть использован не позднее 12 месяцев после окончания того рабочего года, за который он предоставля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7CE7-7811-462B-9176-B7C71B1E002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0360" y="-2736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ституция РФ гарантирует … установленную продолжительность рабочего времени, выходные и праздничные дни, ежегодный оплачиваемый отпуск (ч. 5 ст. 37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1120" y="278136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рмальная продолжительность рабочего времени не может превышать 40 часов в неде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6B18-46E9-400F-9C0C-4255CA9F51D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72800"/>
            <a:ext cx="8226360" cy="54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Ежегодный оплачиваемый отпуск может быть разделен на части. При этом хотя бы одна из частей должно быть не менее14 календарных дн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558000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ADFC-B781-4AC1-ADF0-AEE2F7C8474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73160"/>
            <a:ext cx="822636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Замена ежегодного отпуска денежной компенсаци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асть ежегодного оплачиваемого  отпуска, превышающая 28 календарных дней, по письменному заявлению работника может быть заменена денежной компенсацией. ст.1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1259-2955-48D7-BB7F-03147841D61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73160"/>
            <a:ext cx="822636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Права работника на отпуск при увольне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ри увольнении работнику выплачивается денежная компенсация за все неиспользованные отпус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 письменному заявлению отпуска могут быть предоставлены с последующим увольнением. При этом днем увольнения считается последний день отпуска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Имеет право отозвать заявление об увольнении до начала отпус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BA11-DCB8-49C1-A281-C67F39087814}" type="slidenum">
              <a:t>2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Виды рабочего врем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1557360"/>
            <a:ext cx="2736720" cy="136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рмальная продолжи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льность рабочего вр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67280" y="1700280"/>
            <a:ext cx="208908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кращенная пр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лжи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. вре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72360" y="1700280"/>
            <a:ext cx="216036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пол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ч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рем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95640" y="2997360"/>
            <a:ext cx="1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6920" y="3716280"/>
            <a:ext cx="18734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 часов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дел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6920" y="4581360"/>
            <a:ext cx="518508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 часа в неделю – подростки до 16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 часов в неделю – от 16 до 18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 часов в неделю – на вредных и опасных ра-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 часов в неделю – инвалиды I и II г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48360" y="2997360"/>
            <a:ext cx="144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84720" y="3933720"/>
            <a:ext cx="2519640" cy="20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Работодатель обяз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установить по прос-б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Беременной жен-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родителя, (ребен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о 14 лет или инвал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до 18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уход за членом сем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84720" y="3213000"/>
            <a:ext cx="1224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пол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. нед-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80360" y="3213000"/>
            <a:ext cx="1224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пол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. д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6727680" y="2924280"/>
            <a:ext cx="586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08720" y="2924280"/>
            <a:ext cx="7192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3D1A-4CEF-4DE7-A336-F562CF6C4A9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Рабочий день – установленная законом норма рабочего врем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1700280"/>
            <a:ext cx="374508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рмированный рабочий д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59280" y="1700280"/>
            <a:ext cx="367344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нормированный рабочий д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6920" y="3284640"/>
            <a:ext cx="151308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рма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– 8 ча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00360" y="3284640"/>
            <a:ext cx="172728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дробл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6920" y="4869000"/>
            <a:ext cx="144144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кращ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00360" y="4869000"/>
            <a:ext cx="165564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пол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56000" y="2781360"/>
            <a:ext cx="144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56000" y="3789360"/>
            <a:ext cx="144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335320" y="3789360"/>
            <a:ext cx="225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56000" y="5300640"/>
            <a:ext cx="144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263320" y="5300640"/>
            <a:ext cx="297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59280" y="3141720"/>
            <a:ext cx="367344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чень должностей устанав-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59280" y="4005360"/>
            <a:ext cx="17287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лектив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говор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005360"/>
            <a:ext cx="158436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раслев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глаш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03640" y="5084640"/>
            <a:ext cx="360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илами внутренн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удового распо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04000" y="3716280"/>
            <a:ext cx="144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04000" y="4365720"/>
            <a:ext cx="144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583320" y="4365720"/>
            <a:ext cx="225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32720" y="278136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FC63-5B20-455B-932E-F4000C9BE47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Режим рабочего времени – распределение рабочего врем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652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-дневная рабочая неделя с 2 выходными дн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редование рабочих см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деление рабочего дня на ч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3160" y="1599840"/>
            <a:ext cx="4016520" cy="53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-дневная рабочая неделя с одним выходным дн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чало и окончание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жим гибкого графика рабочего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рывы для отдыха, питания, обогрева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F386-9CD6-416D-8F06-5B670D535C9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Виды учёта рабочего врем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44480"/>
            <a:ext cx="8229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1979640"/>
            <a:ext cx="2340000" cy="720720"/>
          </a:xfrm>
          <a:prstGeom prst="roundRect">
            <a:avLst>
              <a:gd name="adj" fmla="val 2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енный учё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00360" y="1979640"/>
            <a:ext cx="2340000" cy="720720"/>
          </a:xfrm>
          <a:prstGeom prst="roundRect">
            <a:avLst>
              <a:gd name="adj" fmla="val 2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ммирова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ё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9640" y="1979640"/>
            <a:ext cx="2340000" cy="720720"/>
          </a:xfrm>
          <a:prstGeom prst="roundRect">
            <a:avLst>
              <a:gd name="adj" fmla="val 2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часовой учё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0" y="4140360"/>
            <a:ext cx="3240000" cy="1800000"/>
          </a:xfrm>
          <a:prstGeom prst="roundRect">
            <a:avLst>
              <a:gd name="adj" fmla="val 8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етный период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месяц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квартал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месяц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ПВТ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0000" y="2700360"/>
            <a:ext cx="144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EAC3-9FE9-4290-B299-FD96BB32553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ремя отдыха – время, в течение которого работник свободен от выполнения трудовых обязанностей  (ст.106 ТК РФ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44480"/>
            <a:ext cx="8229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986B-9656-4471-A9DF-963FD97908A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Виды времени отды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652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рывы для отдыха, питания, обогрева, кормления ребенка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ходные дни. Еженедельный непрерывный отд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1599840"/>
            <a:ext cx="401652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жедневный (междусменный) отд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здничные д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пу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E77C-760A-48FF-9E89-A415FCB8B8E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Работа в выходные и нерабочие праздничные дни запреще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3110040"/>
            <a:ext cx="8228160" cy="31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Работа возможна только в исключительных случаях с их письменного соглас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Без согласия работника можно привлечь к работам в праздничные и воскресные дни только в случаях предусмотренных зако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31D1-0BF3-4592-9F3D-694E816EF34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7-10-02T06:25:52Z</dcterms:modified>
  <cp:revision>3</cp:revision>
  <dc:subject/>
  <dc:title>Понятие рабочего времени</dc:title>
</cp:coreProperties>
</file>