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la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A5B-D7CB-4F30-9ABC-6256AD04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45C-9497-4715-96E1-890C6F8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A4B-EEB1-427B-BD5C-5E146DFD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4B0-4160-41FB-9421-8DF11A57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8EC-FDC1-42A0-AF22-8D346EE0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AF12-7B2F-411A-97B1-134CF9E0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F0FB-87D5-45FB-9F4E-10FB894D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2F9-148E-4CA1-B2A7-400178A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8D2E-3D0B-4423-A344-F52D53D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AD0C-051C-4BDE-B4ED-F7D3D6D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7C8-C6FD-4E25-8201-CC635A9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AE3-4D0C-4B7B-AC29-364765AA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E5D-CAEF-47DD-9711-D4C00B1C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F32-A79E-4AE1-B2DA-CE27E2D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9BDA-4D74-48C8-8934-64D621F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EE33-380A-455F-8100-F9354300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193E-51A6-4BE9-99A4-7F20B462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BE9-6A66-4132-81EB-46D1CDFB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F7B-6CC1-46A7-92CD-7179D25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A14-33AC-420E-B7A7-2DED5255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4C9-EE19-4A3F-BFC4-CACDF470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447-3F32-4675-B0B2-637B46E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D35-F7B4-4ED9-AB36-243D0E51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EDA-5D7F-411D-99C2-B0A9ADF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5206-D250-48AC-8C7D-D6E455E0BF6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A2AD-D0E9-4BF5-832D-F217BB565DD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Российская академия государственной   </a:t>
            </a: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службы при Президенте РФ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08000" y="4005000"/>
            <a:ext cx="5040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Шевчук А.В., д.э.н., профессор кафедры экологии и управления природопользование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28224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«Задачи, функции и права МПР России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573408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г.Москва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1.11.2007 г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A3E5-8986-4B6F-9A6D-35725A7685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9. порядок и методика проведения лесоустройства на территории лесов, не входящих в лесной фонд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0. порядок утверждения лесоустроительных проектов и других документов лесоустройства, расчетных лесосек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1. перечень показателей государственного учета лесного фонда, а также формы соответствующих докумен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2. критерии отнесения лесов третьей группы к резервным лесам, а также перечень особо защитных участков лесов;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364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 области лесного хозяйств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F48-0CA1-4F23-B998-C0BA0EF89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659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3. перечень показателей государственного лесного кадастра;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4. методики экономической оценки лесов;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5. региональные правила рубок (наставления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6. санитарные правила, регламентирующие мероприятия по защите лесного фонда и лесов, не входящих в лесной фонд, от вредителей и болезней лес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5.2.17. перечень видов побочного лесопользования;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8A-4558-41EA-B525-664EA4EA6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18. перечень противопожарных мероприятий, осуществляемых лесопользователями, и требования к разработке планов таких мероприяти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19. нормы средств пожаротушения в местах проведения на территории лесного фонда работ, культурно-массовых и других мероприяти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20. положение об авиационной охране лесного фонда и лесов, не входящих в лесной фонд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21. перечень должностных лиц государственной лесной охраны Российской Федерации;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233-B993-4F19-AE62-66C3D14E88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15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22. порядок осуществления мониторинга лесов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23. порядок организации и проведения лесных конкурсов и аукционов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24. формы лесорубочного билета, ордера, лесного билета, порядок их учета, хранения, заполнения и выдачи лесопользователю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5.2.25. размер минимальной площади лесов, не входящих в лесной фонд, при которой необходимо проведение лесоустройства;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77F-4FA2-4CFF-BE64-79DC46A7E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2.26. требования к использованию и охране водохранилищ, каскадов или системы водохранилищ;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2.27. перечень видов специального водопользования;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2.28. перечень должностных лиц, осуществляющих государственный надзор за безопасностью гидротехнических сооружений (за исключением судоходных гидротехнических сооружений и гидротехнических сооружений на объектах промышленности и энергетики);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2.29. форма декларации безопасности гидротехнических сооружений;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2.30. порядок формирования и регламент работы экспертных комиссий по проведению государственной экспертизы деклараций безопасности гидротехнических сооружений;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209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 сфере водных отношени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8A5-FA17-419C-8F6B-87FF545D5D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4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31. формы бланков лицензий на водопользование и распорядительных лицензи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32. порядок ведения Российского регистра гидротехнических сооружени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33. порядок проведения очистки водных объектов от затонувшей древесины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34. нормативно-методические документы по проектированию водоохранных зон и прибрежных защитных полос водных объектов и по ведению государственного мониторинга водных объектов;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1EF-E965-46D7-BD96-48BD17EABC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b17a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2.35. правила ведения государственного кадастра особо охраняемых природных территорий, формы учетной документации по особо охраняемым природным территориям и методические указания по их заполнению, а также порядок публикации кадастровых сведений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2.36. порядок регулирования численности объектов животного мира (за исключением объектов животного мира, отнесенных к объектам охоты)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2.37. форма долгосрочной лицензии на пользование объектами животного мира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2.38. положения о государственных природных заповедниках, национальных парках, государственных природных заказниках федерального значения, биосферных полигонах государственных природных биосферных заповедников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2.39. нормативы предельно допустимых вредных воздействий на уникальную экологическую систему озера Байкал, а также методы их определения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2.40. таксы и методики исчисления размера вреда окружающей среде;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1364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 области охраны природ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226-A038-42C7-8D03-401758DC1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бщие функци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3. проводит в установленном порядке конкурсы и заключает государственные контракты на размещение заказов на поставку товаров, выполнение работ и оказание услуг для нужд Министерства, а также на проведение научно-исследовательских работ для государственных нужд в установленной сфере деятельности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4. обобщает практику применения законодательства Российской Федерации и проводит анализ реализации государственной политики в установленной сфере деятельности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5. осуществляет функции главного распорядителя и получателя средств федерального бюджета, предусмотренных на содержание Министерства и реализацию возложенных на Министерство функций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6. организует прием граждан, обеспечивает своевременное и полное рассмотрение устных и письменных обращений граждан, принятие по ним решений и направление ответов заявителям в установленный законодательством Российской Федерации срок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7. обеспечивает в пределах своей компетенции защиту сведений, составляющих государственную тайну;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E2A-2A43-4E13-99D1-D43E8413CA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15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8. обеспечивает мобилизационную подготовку Министерства, а также контроль и координацию деятельности находящихся в его ведении федеральной службы и федеральных агентств по их мобилизационной подготовке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9. организует профессиональную подготовку работников Министерства, их переподготовку, повышение квалификации и стажировку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10. взаимодействует в установленном порядке с органами государственной власти иностранных государств и международными организациями в установленной сфере деятельности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11. осуществляет в соответствии с законодательством Российской Федерации работу по комплектованию, хранению, учету и использованию архивных документов, образовавшихся в процессе деятельности Министерства;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5b5249"/>
                </a:solidFill>
                <a:latin typeface="Times New Roman"/>
              </a:rPr>
              <a:t>5.12. осуществляет иные полномочия в установленной сфере деятельности, если такие полномочия предусмотрены федеральными законами, нормативными правовыми актами Президента Российской Федерации или Правительства Российской Федерации.</a:t>
            </a: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809-929D-4C98-B634-6DB86335B5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276480"/>
            <a:ext cx="856908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рав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6.1. запрашивать и получать в установленном порядке сведения, необходимые для принятия решений по вопросам, отнесенным к компетенции Министерства;</a:t>
            </a: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6.2. учреждать знаки отличия и награждать ими граждан за высокие достижения в установленной сфере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6.3. привлекать в установленном порядке для проработки вопросов в установленной сфере деятельности научные и иные организации, ученых и специалистов;</a:t>
            </a: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6.4. создавать координационные, совещательные и экспертные органы (советы, комиссии, группы, коллегии), в том числе межведомственные, в установленной сфере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6.5. учреждать в установленном порядке печатные средства массовой информации для публикации нормативных правовых актов в установленной сфере деятельности, официальных объявлений, размещения других материалов по вопросам, отнесенным к компетенции Министерства, подведомственных федеральной службы и федеральных агентств 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9D1-21E4-4323-8AD5-9BD9EDC350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49360"/>
            <a:ext cx="6384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сновные вопросы заняти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1508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1.История формирования МПР России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1996-2000 гг.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2000-2001 гг.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2001-2004 гг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2.Современное состояние МПР Росс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2004-2007 гг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3.Перспективы развития  системы управления природными ресурсами и охраной окружающей среды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8BF-8FEB-44AE-9C30-32B1C0FB7C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7. Министерство природных ресурсов Российской Федерации </a:t>
            </a: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не вправе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осуществлять функции по контролю и надзору, а также функции по управлению государственным имуществом,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кроме случаев, устанавливаемых указами Президента Российской Федерации или постановлениями Правительства Российской Федерации;</a:t>
            </a:r>
            <a:br>
              <a:rPr sz="1800"/>
            </a:b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устанавливать не предусмотренные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федеральными конституционными законами, федеральными законами, актами Президента Российской Федерации и Правительства Российской Федерации </a:t>
            </a: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функции и полномочия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федеральных органов государственной власти, органов государственной власти субъектов Российской Федерации, органов местного самоуправления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устанавливать ограничения на осуществление прав и свобод граждан, прав негосударственных коммерческих и некоммерческих организаций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, за исключением случаев, когда возможность введения таких ограничений актами уполномоченных федеральных органов исполнительной власти прямо предусмотрена Конституцией Российской Федерации, федеральными конституционными законами, федеральными законами и издаваемыми на основании и во исполнение Конституции Российской Федерации, федеральных конституционных законов, федеральных законов актами Президента Российской Федерации и Правительства Российской Федерации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280-FFCF-4AE2-8688-CBE6791A89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04280"/>
            <a:ext cx="7466040" cy="107964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Федеральное агентство по недропользованию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(На основании Постановления Правительства Р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от 06 апреля 2004 года № 171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Установлена предельная численность работников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Центрального аппарата – 130 единиц (без персонала по охране и обслуживанию зданий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ерриториальных органов – 1140 единиц (без персонала по охране и обслуживанию зданий)</a:t>
            </a:r>
            <a:r>
              <a:rPr b="0" i="1" lang="ru-RU" sz="2400" spc="-1" strike="noStrike">
                <a:solidFill>
                  <a:srgbClr val="b0ae6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70d45"/>
                </a:solidFill>
                <a:latin typeface="Times New Roman"/>
              </a:rPr>
              <a:t>Основные функ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7B4-8447-4884-AD6D-DDB1FDA62DA3}" type="slidenum">
              <a:t>21</a:t>
            </a:fld>
          </a:p>
        </p:txBody>
      </p:sp>
    </p:spTree>
  </p:cSld>
  <p:transition spd="med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88160" cy="588312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рганизация работ по воспроизводству минерально-сырьевой базы и ее рациональному использованию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проведение геологического изучения недр на территории Российской Федерации и континентальном шельфе Российской Федераци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едение федерального и территориальных фондов геологической информации о недрах, а также банка данных по вопросам недропользова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управление в пределах своей компетенции федеральным имуществом в сфере недропользования, в том числе управление государственным фондом недр;</a:t>
            </a:r>
            <a:r>
              <a:rPr b="0" lang="ru-RU" sz="36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BE0-D227-4AEC-AFB6-94450ECD9D40}" type="slidenum">
              <a:t>22</a:t>
            </a:fld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91516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существление в пределах и порядке, определенных федеральными законами, актами Президента Российской Федерации и Правительства Российской Федерации, полномочий собственника в отношении необходимого для обеспечения исполнения функций федеральных органов государственной власти федерального имущества, в том числе переданного федеральным государственным унитарным предприятиям, федеральным казенным предприятиям и государственным учреждениям, подведомственным Агентству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92F-A029-476F-8483-99C04D9ECFCD}" type="slidenum">
              <a:t>23</a:t>
            </a:fld>
          </a:p>
        </p:txBody>
      </p:sp>
    </p:spTree>
  </p:cSld>
  <p:transition spd="med"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15080" cy="5610240"/>
          </a:xfrm>
          <a:prstGeom prst="rect">
            <a:avLst/>
          </a:prstGeom>
          <a:solidFill>
            <a:srgbClr val="c9ddf1"/>
          </a:solidFill>
          <a:ln w="9360">
            <a:solidFill>
              <a:srgbClr val="f0efe0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едение государственного кадастра месторождений и проявлений полезных ископаемых, государственного учета работ по геологическому изучению недр, участков недр, предоставленных для добычи полезных ископаемых, а также для целей, не связанных с их добычей, и включение их в государственный реестр, ведение государственного баланса запасов полезных ископаемых, осуществление мониторинга состояния недр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предоставление в установленном порядке права пользования недрами;</a:t>
            </a: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27A-0A4B-47DC-B014-22FC5D589E17}" type="slidenum">
              <a:t>24</a:t>
            </a:fld>
          </a:p>
        </p:txBody>
      </p:sp>
    </p:spTree>
  </p:cSld>
  <p:transition spd="slow">
    <p:pull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15080" cy="606744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казание государственных услуг, связанных с проведением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 установленном порядке геолого-экономической и стоимостной оценки месторождений полезных ископаемых и участков недр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государственной экспертизы запасов полезных ископаемых, геологической и экономической информации о предоставляемых в пользование участках недр, а также проектно-сметной документации на ведение работ по геологическому изучению недр.</a:t>
            </a:r>
            <a:r>
              <a:rPr b="0" i="1" lang="ru-RU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327-FEBA-4C84-9775-C3149F8159C0}" type="slidenum">
              <a:t>25</a:t>
            </a:fld>
          </a:p>
        </p:txBody>
      </p:sp>
    </p:spTree>
  </p:cSld>
  <p:transition spd="med"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772400" cy="100800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Федеральное агентство </a:t>
            </a:r>
            <a:br>
              <a:rPr sz="3600"/>
            </a:b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лесного хозяйств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84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(На основании Постановления Правительства Р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от 06 апреля 2004 года № 170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Установлена предельная численность работников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Центрального аппарата – 140 единиц (без персонала по охране и обслуживанию зданий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Территориальных органов – 2975 единиц (без персонала по охране и обслуживанию зданий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70d45"/>
                </a:solidFill>
                <a:latin typeface="Times New Roman"/>
              </a:rPr>
              <a:t>Основные функци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4B9-3CD9-438A-AF08-582E4806BFCB}" type="slidenum">
              <a:t>26</a:t>
            </a:fld>
          </a:p>
        </p:txBody>
      </p:sp>
    </p:spTree>
  </p:cSld>
  <p:transition spd="med">
    <p:strips dir="r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15080" cy="581184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беспечение рационального, непрерывного и неистощительного лесопользования, воспроизводства, охраны и защиты лесов, объектов животного мира (за исключением отнесенных к объектам охоты), выполнения мер по лесному семеноводству, гидромелиоративных работ и иных работ по ведению лесного хозяйства, рационального использования земель лесного фонда, сохранения и усиления средообразующих, защитных, водоохранных, рекреационных и иных полезных природных свойств лесо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предоставление прав пользования участками лесного фонда;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744-AC3B-4189-92C3-DB3F92E89A43}" type="slidenum">
              <a:t>27</a:t>
            </a:fld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43800" cy="546732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беспечени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проведения лесоустройств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казание государственных услуг, связанных с предоставлением информации о состоянии участков лесного фонда, организацией выбора участков лесного фонда для разрешенных видов лесопользования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существление государственного мониторинга лесов;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ABF-8F58-4FBC-A719-53C34EF66F0E}" type="slidenum">
              <a:t>28</a:t>
            </a:fld>
          </a:p>
        </p:txBody>
      </p:sp>
    </p:spTree>
  </p:cSld>
  <p:transition spd="med">
    <p:blinds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43800" cy="597708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едение государственного учета лесного фонда, отнесение в установленном порядке лесов к группам лесов и категориям защитности лесов первой группы, а также перевод лесов из одной группы лесов или из категории защитности лесов первой группы соответственно в другую группу или категорию;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едение государственного лесного кадастр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рассмотрение ходатайств о переводе лесных земель в нелесные и переводе земель лесного фонда в земли иных категорий.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5D8-6346-40D6-B7DE-081AE37AE237}" type="slidenum">
              <a:t>29</a:t>
            </a:fld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189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МПР России (Трутнев Ю.П.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Федерально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агентств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по недропользованию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(Ледовских А.А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Федерально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агентств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лесного хозяйства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(Рощупкин В.П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Федерально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агентств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водных ресурсов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(Хамитов Р.З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Федеральн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ая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служб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по надзору в сфере экологии и природополь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(Сай С.И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C2F-9847-45CB-A75C-814C8F992CDC}" type="slidenum">
              <a:t>3</a:t>
            </a:fld>
          </a:p>
        </p:txBody>
      </p:sp>
    </p:spTree>
  </p:cSld>
  <p:transition spd="med">
    <p:dissolve/>
    <p:sndAc>
      <p:stSnd>
        <p:snd r:embed="rId1" name="cla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00800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Федеральное агентство </a:t>
            </a:r>
            <a:br>
              <a:rPr sz="3200"/>
            </a:b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водных ресурсов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588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(На основании Постановления Правительства Р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от 06 апреля 2004 года № 169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Установлена предельная численность работников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Центрального аппарата – 77 единиц (без персонала по охране и обслуживанию зданий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Территориальных органов – 1090 единиц (без персонала по охране и обслуживанию зданий</a:t>
            </a:r>
            <a:r>
              <a:rPr b="0" i="1" lang="ru-RU" sz="2400" spc="-1" strike="noStrike">
                <a:solidFill>
                  <a:srgbClr val="75a58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70d45"/>
                </a:solidFill>
                <a:latin typeface="Times New Roman"/>
              </a:rPr>
              <a:t>Основные функц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E06-31FA-43BE-9EB1-1E9D82EDC151}" type="slidenum">
              <a:t>30</a:t>
            </a:fld>
          </a:p>
        </p:txBody>
      </p:sp>
    </p:spTree>
  </p:cSld>
  <p:transition spd="med">
    <p:strips dir="r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15080" cy="595620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беспечение в пределах своей компетенции мероприятий по рациональному использованию, восстановлению и охране водных объектов, предупреждению и ликвидации вредного воздействия вод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предоставление права пользования водными объектами, находящимися в федеральной собственност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эксплуатация водохранилищ и водохозяйственных систем комплексного назначения, защитных и других гидротехнических сооружений, находящихся в ведении Агентства, обеспечение их безопасности;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4B7-F141-47D8-A74B-EEE889EBFFD4}" type="slidenum">
              <a:t>31</a:t>
            </a:fld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15080" cy="583884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разработка в установленном порядке схем комплексного использования и охраны водных ресурсов, водохозяйственных балансов и составление прогнозов состояния водных ресурсов и перспективного использования и охраны водных объекто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беспечение разработки и осуществления противопаводковых мероприятий, мероприятий по проектированию и установлению водоохранных зон водных объектов и их прибрежных защитных полос, предотвращению загрязнения вод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CC2-C0EA-4C18-87C3-6207DE9E22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39120" cy="604872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казание государственных услуг по предоставлению информации, связанной с состоянием и использованием водных объектов, находящихся в федеральной собственност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едение государственного реестра договоров пользования водными объектами, государственного водного кадастра и Российского регистра гидротехнических сооружений, осуществление государственного мониторинга водных объектов, государственного учета поверхностных и подземных вод и их использования.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64A-89AC-48CA-A7B3-CB50F5D36C77}" type="slidenum">
              <a:t>33</a:t>
            </a:fld>
          </a:p>
        </p:txBody>
      </p:sp>
    </p:spTree>
  </p:cSld>
  <p:transition spd="med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96160" cy="151128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Федеральная служба </a:t>
            </a:r>
            <a:br>
              <a:rPr sz="3200"/>
            </a:b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по надзору в сфере   природопользовани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588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(На основании Постановления Правительства Р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от 06 апреля 2004 года № 161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Установлена предельная численность работников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Центрального аппарата – 150 единиц (без персонала по охране и обслуживанию зданий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b5249"/>
                </a:solidFill>
                <a:latin typeface="Times New Roman"/>
              </a:rPr>
              <a:t>Территориальных органов – 1140 единиц (без персонала по охране и обслуживанию зданий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70d45"/>
                </a:solidFill>
                <a:latin typeface="Times New Roman"/>
              </a:rPr>
              <a:t>Основные функц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B1B-DC19-43AC-90C5-78F527378614}" type="slidenum">
              <a:t>34</a:t>
            </a:fld>
          </a:p>
        </p:txBody>
      </p:sp>
    </p:spTree>
  </p:cSld>
  <p:transition spd="med">
    <p:strips dir="r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227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ПОЛОЖЕНИЕ</a:t>
            </a:r>
            <a:br>
              <a:rPr sz="2800"/>
            </a:b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о Федеральной службе по надзору в сфере природопользования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ТВЕРЖДЕНО</a:t>
            </a:r>
            <a:br>
              <a:rPr sz="3200"/>
            </a:b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становлением Правительства</a:t>
            </a:r>
            <a:br>
              <a:rPr sz="3200"/>
            </a:b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оссийской Федерации</a:t>
            </a:r>
            <a:br>
              <a:rPr sz="3200"/>
            </a:b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 30 июля 2004 г. № 40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778-9895-4F5A-ABB8-C68EC962DB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15080" cy="574020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существляет контроль и надзор (1):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5.1.1. в области охраны, использования и воспроизводства объектов животного мира и среды их обитания (кроме объектов охоты и рыболовства)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5.1.2. в области организации и функционирования особо охраняемых природных территорий федерального значени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5.1.3. за геологическим изучением, рациональным использованием и охраной недр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5.1.4. за состоянием, использованием, охраной, защитой лесного фонда и воспроизводством лесов;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252-C104-48F6-A41B-E09E797852B4}" type="slidenum">
              <a:t>36</a:t>
            </a:fld>
          </a:p>
        </p:txBody>
      </p:sp>
    </p:spTree>
  </p:cSld>
  <p:transition spd="med">
    <p:zoom dir="ou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7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15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Осуществляет контроль и надзор (2):</a:t>
            </a:r>
            <a:r>
              <a:rPr b="0" lang="ru-RU" sz="1400" spc="-1" strike="noStrike">
                <a:solidFill>
                  <a:srgbClr val="ff505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1.5.за использованием и охраной водных объектов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1.6. за соблюдением законодательства Российской Федерации и международных норм и стандартов в области морской среды и природных ресурсов внутренних морских вод, территориального моря и в исключительной экономической зон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1.7. за рациональным использованием минеральных и живых ресурсов на континентальном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шельф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1.8. за безопасностью гидротехнических сооружений (соблюдением норм и правил безопасности), кроме гидротехнических сооружений промышленности, энергетики и судоходных гидротехнических сооружений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1.9. государственный земельный контроль в пределах своей компетенции в отношении земель водного фонда, лесного фонда, земель лесов, не входящих в лесной фонд, и особо охраняемых природных территорий;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938-3DAB-4509-85C3-1597270D13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9604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полняет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функци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(1):</a:t>
            </a:r>
            <a:r>
              <a:rPr b="0" lang="ru-RU" sz="2400" spc="-1" strike="noStrike">
                <a:solidFill>
                  <a:srgbClr val="f0efe0"/>
                </a:solidFill>
                <a:latin typeface="Times New Roman"/>
              </a:rPr>
              <a:t> 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2.1. административного органа по Конвенции о международной торговле видами дикой фауны и флоры, находящимися под угрозой исчезновения, от 3 марта 1973 г. в Российской Федерации в отношении видов дикой фауны и флоры, находящихся под угрозой исчезновения, кроме осетровых видов рыб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2.2. федерального органа исполнительной власти, специально уполномоченного на осуществление государственного регулирования в области охраны озера Байкал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 выдает в установленном порядке лицензии (разрешения) на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1. добывание объектов животного и растительного мира, занесенных в Красную книгу Российской Федерации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2. оборот диких животных, принадлежащих к видам, занесенным в Красную книгу Российской Федерации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3. добывание объектов животного мира, не отнесенных к объектам охоты и рыболовства, и пользование ими;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931-548D-4D20-9216-A71395356161}" type="slidenum">
              <a:t>38</a:t>
            </a:fld>
          </a:p>
        </p:txBody>
      </p:sp>
    </p:spTree>
  </p:cSld>
  <p:transition spd="med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43800" cy="588312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полняет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функци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(2):</a:t>
            </a:r>
            <a:r>
              <a:rPr b="0" lang="ru-RU" sz="2400" spc="-1" strike="noStrike">
                <a:solidFill>
                  <a:srgbClr val="f0efe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3.4. содержание и разведение в полувольных условиях и искусственно созданной среде обитания объектов животного мира, не отнесенных к объектам охоты и рыболовства;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3.5. ввоз (вывоз) в Российскую Федерацию зоологических коллекций;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3.6. ввоз (вывоз) в Российскую Федерацию диких животных, их частей и полученной из них продукции (кроме объектов охоты и рыболовства);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b5249"/>
                </a:solidFill>
                <a:latin typeface="Times New Roman"/>
              </a:rPr>
              <a:t>5.3.7. ввоз (вывоз) в Российскую Федерацию видов дикой фауны и флоры, находящихся под угрозой исчезновения, кроме осетровых рыб; 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190-8CBD-4EFD-A0C4-0A4C5C7D3AEB}" type="slidenum">
              <a:t>39</a:t>
            </a:fld>
          </a:p>
        </p:txBody>
      </p:sp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320" y="2362320"/>
            <a:ext cx="75438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(На основании Постановления Правительства Р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от 06 апреля 2004 года № 160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Установлена предельная численность работников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Центрального аппарата в количестве 370 единиц (без персонала по охране обслуживанию зданий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70d45"/>
                </a:solidFill>
                <a:latin typeface="Times New Roman"/>
              </a:rPr>
              <a:t>Основные функци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Министерство природных ресурсов Российской Федерац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01A-7CEE-4900-9BC4-4177FBB78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88160" cy="602748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76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полняет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функции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(3):</a:t>
            </a:r>
            <a:r>
              <a:rPr b="0" lang="ru-RU" sz="2000" spc="-1" strike="noStrike">
                <a:solidFill>
                  <a:srgbClr val="f0efe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8. экспорт диких животных, дикорастущих растений, костей ископаемых животных, слоновой кости, рогов, копыт, кораллов и аналогичных материалов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9. экспорт лекарственного сырья растительного и животного происхождения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10. экспорт рыбы, ракообразных, моллюсков и прочих водных беспозвоночных, развивающейся икры, молоки (спермы) осетровых, лососевых и частиковых рыб (только живых)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11. экспорт коллекционных материалов по минералогии и палеонтологии, полудрагоценных камней и изделий из них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5.3.12. экспорт информации о недрах по районам и месторождениям топливно-энергетического и минерального сырья, расположенным на территории Российской Федерации, и в пределах континентального шельфа и морской зоны Российской Федерации; </a:t>
            </a:r>
            <a:br>
              <a:rPr sz="2000"/>
            </a:br>
            <a:br>
              <a:rPr sz="1800"/>
            </a:br>
            <a:br>
              <a:rPr sz="1600"/>
            </a:b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8D9-A4D8-4BAE-BE42-35D325B09B03}" type="slidenum">
              <a:t>40</a:t>
            </a:fld>
          </a:p>
        </p:txBody>
      </p:sp>
    </p:spTree>
  </p:cSld>
  <p:transition spd="med">
    <p:strips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588160" cy="5811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764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Выполняет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функции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(4):</a:t>
            </a:r>
            <a:r>
              <a:rPr b="0" lang="ru-RU" sz="3600" spc="-1" strike="noStrike">
                <a:solidFill>
                  <a:srgbClr val="f0efe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3.13. создание, эксплуатацию и использование искусственных островов, сооружений и установок, проведение буровых работ, связанных с геологическим изучением, поиском, разведкой и разработкой минеральных ресурсов, а также прокладку подводных кабелей и трубопроводов во внутренних морских водах, территориальном море Российской Федерации и на континентальном шельфе Российской Федерации в пределах своей компетенции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EF3-2A77-41DD-9F71-C94FDFF1A6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a3d7a"/>
                </a:solidFill>
                <a:latin typeface="Times New Roman"/>
              </a:rPr>
              <a:t>Организует и проводит в порядке, определяемом Правительством Российской Федерации, государственную экологическую экспертизу (1):</a:t>
            </a:r>
            <a:br>
              <a:rPr sz="24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88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5b5249"/>
                </a:solidFill>
                <a:latin typeface="Times New Roman"/>
              </a:rPr>
              <a:t>5.4.1. проектов правовых актов Российской Федерации и субъектов Российской Федерации, реализация которых может привести к негативным воздействиям на природные ресурсы, нормативно-технических и инструктивно-методических документов органов государственной власти Российской Федерации, регламентирующих хозяйственную и иную деятельность, которая может оказывать воздействие на использование природных ресурсов;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5b5249"/>
                </a:solidFill>
                <a:latin typeface="Times New Roman"/>
              </a:rPr>
              <a:t>5.4.2. материалов, подлежащих утверждению органами государственной власти Российской Федерации и субъектов Российской Федерации и предшествующих разработке прогнозов развития и размещения производительных сил на территории Российской Федерации и субъектов Российской Федерации, в том числе: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5b5249"/>
                </a:solidFill>
                <a:latin typeface="Times New Roman"/>
              </a:rPr>
              <a:t>проектов генеральных планов развития территорий с особым режимом природопользования и ведения хозяйственной деятельности;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5b5249"/>
                </a:solidFill>
                <a:latin typeface="Times New Roman"/>
              </a:rPr>
              <a:t>проектов генеральных схем расселения, природопользования и территориальной организации производительных сил Российской Федерации и субъектов Российской Федерации;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5b5249"/>
                </a:solidFill>
                <a:latin typeface="Times New Roman"/>
              </a:rPr>
              <a:t>проектов схем расселения, природопользования и территориальной организации производительных сил крупных регионов и национально-государственных образований;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5b5249"/>
                </a:solidFill>
                <a:latin typeface="Times New Roman"/>
              </a:rPr>
              <a:t>проектов комплексных схем охраны природы Российской Федерации и территориальных комплексных схем охраны природы и природопользования; 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B3C-AD54-41B8-9C1F-B41F2979BE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a3d7a"/>
                </a:solidFill>
                <a:latin typeface="Times New Roman"/>
              </a:rPr>
              <a:t>Организует и проводит в порядке, определяемом Правительством Российской Федерации, государственную экологическую экспертизу (2):</a:t>
            </a:r>
            <a:br>
              <a:rPr sz="24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88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5.4.3. документации, обосновывающей соглашения о разделе продукции и концессионные договоры, а также другие договоры, предусматривающие использование природных ресурсов, находящихся в ведении Российской Федерации, субъектов Российской Федерации и органов местного самоуправления;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5.4.4. материалов комплексного экологического обследования участков территорий, обосновывающих придание этим территориям правового статуса особо охраняемых природных территорий федерального значения, субъектов Российской Федерации и местного значения, а также программ реабилитации этих территорий;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5.4.5. проектов схем охраны и использования водных, лесных, земельных и других природных ресурсов, находящихся в ведении Российской Федерации и субъектов Российской Федерации;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5.4.6. документации об изменении функционального статуса, вида и характера использования территорий федерального значения, в том числе материалов, обосновывающих перевод лесных земель в нелесные;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5.4.7. иных видов документации, обосновывающей хозяйственную и иную деятельность, которая способна оказывать прямое или косвенное воздействие на охрану и использование природных ресурсов;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4CE-F6A4-47AB-984F-73BC4A7950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15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5.5. осуществляет в пределах своей компетенции мониторинг объектов животного мира, уникальной экологической системы озера Байкал, континентального шельфа, исключительной экономической зоны, внутренних морских вод и территориального моря Российской Федерации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5.6. осуществляет ведение Красной книги Российской Федерации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5.7. осуществляет ведение кадастра особо охраняемых природных территорий федерального значения;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B3A-CDD4-4869-94C1-B57B29DA7E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9944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 основании и во исполнение Конституции Российской Федерации, федеральных конституционных законов, федеральных законов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актов Президента Российской Федерации и Правительства Российской Федерации самостоятельно принимает следующие нормативные правовые акты в установленной сфере деятель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1BD-6C2A-4713-9B7D-31D57A418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99440" cy="578016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ыработк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государственной политики и нормативно-правово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регулировани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в сфере природопользования, охраны окружающей среды и обеспечения экологической безопасности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осуществляет 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оординаци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ю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и контрол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ь 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деятельности находящихся в его ведении Федеральной службы по надзору в сфере экологии и природопользования, Федерального агентства водных ресурсов, Федерального агентства лесного хозяйства и Федерального агентства по недропользованию</a:t>
            </a: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F3D-AFE1-48F1-ADE3-29EB2F33C0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15080" cy="559584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существляет правовое регулирование, а также разрабатывает и представляет в Правительство Российской Федерации проекты федеральных конституционных законов, федеральных законов и актов Президента Российской Федерации и Правительства Российской Федерации по следующим вопросам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2CF-2C32-4506-A4D2-454E60486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5.2.1. порядок государственного учета и ведения государственного реестра работ по геологическому изучению недр, участков недр, предоставленных для добычи полезных ископаемых, а также в целях, не связанных с их добычей, и лицензий на пользование недрам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5.2.2. порядок постановки запасов полезных ископаемых на государственный баланс и их списания с государственного баланс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5.2.3. порядок переоформления лицензий на пользование участками недр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5.2.4. классификация запасов и прогнозных ресурсов полезных ископаемых по видам полезных ископаемых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 сфере недропользован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4C5-0EDD-4543-9C97-962FE01E03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640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5. методики геолого-экономической и стоимостной оценок месторождений полезных ископаемых и участков недр по видам полезных ископаемых;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6. порядок и условия использования геологической информации о недрах, являющейся государственной собственностью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7. форма бланка лицензии на пользование недрам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3399ff"/>
                </a:solidFill>
                <a:latin typeface="Times New Roman"/>
              </a:rPr>
              <a:t>5.2.8. региональные перечни видов полезных ископаемых, относимых к общераспространенным;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604-7DE8-4F92-BC8A-2DC65E02B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7:51:26Z</dcterms:created>
  <dc:creator>418-57</dc:creator>
  <dc:description/>
  <dc:language>en-US</dc:language>
  <cp:lastModifiedBy>User</cp:lastModifiedBy>
  <dcterms:modified xsi:type="dcterms:W3CDTF">2007-11-01T05:08:58Z</dcterms:modified>
  <cp:revision>60</cp:revision>
  <dc:subject/>
  <dc:title>МПР России (Трутнев Ю.П.)</dc:title>
</cp:coreProperties>
</file>