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F3D-10E0-4BFE-88B7-DECA6253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5BA-7D90-4B41-9E91-68BD79A3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978-D6FA-4AAC-9DDF-8D86248E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F34-AEE3-4C38-89C1-3D696473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B9CF-B580-403D-B4EF-2EB96A74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00F7-55AD-4AC8-9653-3A27CADC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0317-6221-46FC-97EA-2BB28EDA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08A7-C714-4824-91CD-BDC3DAB3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9648-35F9-46C9-8CE7-F87D8E8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1677-D1A9-448D-BA5B-4D9AE0D1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31C8-75B1-45A2-8F38-64C96DA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1FF-E338-49A6-B163-0878B924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C144-04D6-4FB5-A7FE-D39F906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5DD5-5E60-48B9-9676-1BE36F65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2DFC-4C4C-47B2-9317-AB993D8C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4FC1-B778-4B9C-AA51-827CD6DE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F3B5-06B7-4D32-B9C5-8223CC9D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9A4-0138-4509-ABB5-6073DA50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7F7-E8BE-447D-8833-6A804F47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0F7-1A9D-4B53-8731-5E080AA5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667-ED1D-433B-96FA-F18E9DC3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7E0-6022-42D5-A934-885E814D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BDE-1C19-40C4-8DD3-EE0D14A2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F52-D72A-47CE-9B3E-4D785F9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E7DA-5095-4353-9AB5-BC033B8E2A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D17-2B31-4E36-92CA-61CD2A46AC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Российская академия государственной службы при Президенте РФ</a:t>
            </a:r>
            <a:r>
              <a:rPr b="1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dbbd71"/>
                </a:solidFill>
                <a:latin typeface="Arial"/>
              </a:rPr>
              <a:t>                                                    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«Нормативно-правовые основы экономического и финансового регулирования охраны окружающей среды и природопользования»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660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10.20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9602-A811-4878-97C7-A28860ECFF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Международные договоры (1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ждународное сотрудничество Российской Федерации в области охраны окружающей среды и обеспечения экологической безопасности развивается в рамках многосторонних конвенций и соглашений, международных организаций, а также двусторонних договоров и соглашений со странами СНГ, ближнего и дальнего зарубеж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льшое внимание уделяется развитию сотрудничества в сфере экологического, технологического и атомного надз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463-33A6-49C5-8555-CE417FA80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Международные договоры (2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азельская конвенция о контроле за трансграничной перевозкой опасных отходов и их удалени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венция о трансграничном загрязнении воздуха на большие расстоя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венция ООН об изменении клима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кгольмская конвенция о стойких органических загрязнителях (СОЗ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венция ЕЭК ООН о трансграничном воздействии промышленных авар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венция ЕЭК ООН по охране и использованию трансграничных водотоков и международны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зе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венция ЕЭК ООН об оценке воздействия на окружающую среду в трансграничном контекс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венция об охране дикой фауны и флоры и природных сред обитания в Европе (Бернская конвенция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A34-9D46-4D68-91A1-F0971D9FC5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Международные договоры (3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енская конвенция об охране озонового слоя (1985 г.) и Монреальский протокол по веществам, разрушающим озоновый слой (1987 г.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нвенция по защите морской среды района Балтийского моря (Хельсинкская конвенция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нвенция по защите Черного моря от загрязнения (Бухарестская конвенция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мочная конвенция по защите морской среды Каспийского моря (Тегеранская конвенция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нвенция о биологическом разнообразии (КБР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ждународная конвенция о регулировании китобойного промысла – Международная китобойная комиссия (МКК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нвенция о водно-болотных угодьях, имеющих международное значение главным образом в качестве местообитаний водоплавающих птиц (Рамсарская конвенция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нвенция об охране мигрирующих видов диких животных (Боннская конвенция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90B-2925-4D52-B7FE-4D92313B17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Международные договоры (4)</a:t>
            </a:r>
            <a:br>
              <a:rPr sz="2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Многостороннее сотрудничество государств-участников СНГ в области охраны окружающей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Соглашение об охране и использовании мигрирующих видов птиц и млекопитающих и мест их обита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Соглашение о Красной книге редких и находящихся под угрозой исчезновения видов животных и раст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Соглашение о контроле за трансграничной перевозкой опасных и других отходов;</a:t>
            </a: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Соглашение о сотрудничестве между МЭС и Программой ООН по окружающей сред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Соглашение об информационном сотрудничестве в области экологии и охраны окружающей природной сред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Соглашение об основных принципах взаимодействия в области рационального использования и охраны трансграничных водных объектов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Соглашение о сотрудничестве в области экологического мониторинг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573-DBC0-426F-AF95-71E1D5335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Налоговое и природно-ресурсное законодательство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емельный нало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ог на добычу полезных ископаемы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атежи при пользовании нед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дный на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ата за пользование водными объект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рендная плата за пользование лесным участком, находящимся в государственной или муниципальной собств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боры за пользование объектами животного мира и за пользование объектами водных биологических ресурс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ата за негативное воздействие на окружающую сре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15A-AF5F-4EB7-9633-FD04AD6AA2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Бюджетное законодательство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отношение бюджетов различных уров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рмирование и расходование бюдже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ение содержания расходования средств на мероприя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ение содержания инвестиций, субсидий и субвен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крепление администраторов платы за пользование природными ресурсами  загрязнение окружающей ср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юджет текущего года, трехлетний бюд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286-3D66-49BB-81C7-5C6657D3A0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Гражданский кодекс</a:t>
            </a:r>
            <a:br>
              <a:rPr sz="40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.130 ГК РФ об отнесении природных ресурсов (объектов) к недвиж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BEA-86E2-4192-ACF7-68D6B7082F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Нормативные акты Правительства РФ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ановления и распоряжения, определяющ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авки плат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ила учета и расходования средств, получаемые в форме инвестиций, субсидий и субвенций на реализацию мероприятий в сфере охран окружающей среды  рационального использования природных ресур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BA0-9FCA-48CD-99C5-9DF9F17F1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Нормативные акты федеральных ведомств финансово-экономического  и природно-ресурсного блоков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821844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ка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стр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од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чет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C4C-7077-4BD0-9905-BA0AF4DB3B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Нормативные акты субъектов РФ и муниципальных образовани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шения в ча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редоставления земельных участ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заключение договор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ьзования природными ресурсами в соответствии  с компетенц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определения объектов, предлагаемых к включению в Перечни мероприятий, которые финансируются из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C1C-E787-44EB-A8BB-DCD31E564F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Виды экономических и финансовых механизмов регулирования охраны окружающей среды и природопользования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(1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96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те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щербы, 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нирование и финансирование природоохранных и ресурсных мероприятий в рамках ФЦП, ВЦП и РЦП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вести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бси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бвен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C9F-60FF-4A05-B76F-A009C026B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Ущербы, и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ск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ализация норм природно-ресурсного и природоохранного законодательств, а также норм Гражданского кодекса и Административного кодекса в части возмещения вреда и убытков возникших в результате экологических правонаруш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0AA-0CDF-4D2D-A1DC-DAEDF082E7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Планирование и финансирование природоохранных и ресурсных мероприяти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Методы планиро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едеральные  целевые программы (ФЦП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домственные целевые программы (ВЦ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гиональные и муниципальные программы (РЦП и М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Формы финансиров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юджеты основой деятельности ведомств природно-ресурсного бл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вести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бсид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бвен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6A6-E430-4807-8C33-0FB2EAC49F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Фонды, международные займы, гранты, проекты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ждународные финансовы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ическая помощь в рамках сотрудничества с отдельными государств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C29-085B-4C76-BC6C-EDBE99FC49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Менеджмент и эффективность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уктура управления природно-ресурсным и природоохранным блоком и организация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вень финансирования природоохранных программ и меропри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ффективность расходования бюджет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CC9-2824-437D-89F6-19131FE8F9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785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временное нормативно-правовое поле в области экономического регулирования природопользования и охраны окружающей среды находится в процессе формир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бходимо отработать взаимодействие федеральных и региональных органов власти в части экономического регулирования природопольз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ебуется новая концепция развития экономических и финансовых форм регулирования природопользования и охраны окружающей сре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320-2E50-492D-97C0-F2394FE8E1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Литература (1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ституция РФ9 (от 4.10.2006 г., № 201-ФЗ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БЮДЖЕТНЫЙ КОДЕКС РОССИЙСКОЙ ФЕДЕРАЦИИ" от 31.07.1998 N 145-ФЗ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нят ГД ФС РФ 17.07.1998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д. от 26.04.2007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ЕДЕРАЛЬНЫЙ ЗАКОН от 24.07.2007 N 198-ФЗ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О ФЕДЕРАЛЬНОМ БЮДЖЕТЕ НА 2008 ГОД И НА ПЛАНОВЫЙ ПЕРИОД 2009 И 2010 ГОДОВ"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принят ГД ФС РФ 06.07.2007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ЕДЕРАЛЬНЫЙ ЗАКОН от 24.07.2007 N 198-ФЗ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О ФЕДЕРАЛЬНОМ БЮДЖЕТЕ НА 2008 ГОД И НА ПЛАНОВЫЙ ПЕРИОД 2009 И 2010 ГОДОВ"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принят ГД ФС РФ 06.07.2007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ГРАЖДАНСКИЙ КОДЕКС РОССИЙСКОЙ ФЕДЕРАЦИИ (ЧАСТЬ ПЕРВАЯ)" от 30.11.1994 N 51-ФЗ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принят ГД ФС РФ 21.10.1994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ред. от 26.06.2007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логовый кодекс РФ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F55-984C-464D-A844-FE0B8B54B8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Литература (2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Об охране окружающей среды" (Федеральный закон от 10 января 2002 г. N 7-ФЗ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сной кодекс РФ (от 4 декабря 2006 г. N 200-ФЗ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О недрах" (Закон Российской Федерации  от 3 марта 1995 г.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Водный кодекс Российской Федерации» (Федеральный закон от 03.06.2006 № 73-ФЗ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Земельный кодекс Российской Федерации» (от 25.10.2001 N 137-ФЗ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О животном мире» (№52-ФЗ от 24.04.1995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78A-4772-44A0-BCAD-ED70429406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Литература (3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АНОВЛЕНИЕ Правительства РФ от 11.10.2001 N 714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ред. от 27.05.2005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ОБ УТВЕРЖДЕНИИ ПОЛОЖЕНИЯ О ФОРМИРОВАНИИ ПЕРЕЧНЯ СТРОЕК И ОБЪЕКТОВ ДЛЯ ФЕДЕРАЛЬНЫХ ГОСУДАРСТВЕННЫХ НУЖД И ИХ ФИНАНСИРОВАНИИ ЗА СЧЕТ СРЕДСТВ ФЕДЕРАЛЬНОГО БЮДЖЕТА"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ПОСТАНОВЛЕНИЕ Правительства РФ от 29.12.2006 N 837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ред. от 10.03.2007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АНОВЛЕНИЕ Правительства РФ от 27.10.2006 N 629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ОБ УТВЕРЖДЕНИИ ПРАВИЛ РАСХОДОВАНИЯ И УЧЕТА СРЕДСТВ, ПРЕДОСТАВЛЯЕМЫХ В ВИДЕ СУБВЕНЦИЙ ИЗ ФЕДЕРАЛЬНОГО БЮДЖЕТА БЮДЖЕТАМ СУБЪЕКТОВ РОССИЙСКОЙ ФЕДЕРАЦИИ НА ОСУЩЕСТВЛЕНИЕ ОТДЕЛЬНЫХ ПОЛНОМОЧИЙ РОССИЙСКОЙ ФЕДЕРАЦИИ В ОБЛАСТИ ВОДНЫХ ОТНОШЕНИЙ"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FFB-B5D2-405E-B0B4-D95541F2AB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Литература (4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ономика и организация природопользования. М.,ЮНИТИ, 200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ономика природопользования  (учебник)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, МГУ, «ТЭИС», 200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ологическое право (учебник) Дубовик О.Л., М., Изд. «Проспект», 200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ономическая и финансовая политика в сфере охраны окружающей среды: Сборник аналитических материалов, нормативных правовых актов и ведомственных документов/ Под общ. Ред. Проф.В.И. Данилова-Данильяна.-М.: НУМЦ Госкомэкологии России, 1999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ономика природопользования. Шевчук А.В., М., НИА-Природа, 2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9B5-D8CA-4AD8-BABC-EC98B45C93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Виды экономических и финансовых механизмов регулирования охраны окружающей среды и природопользования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(2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9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еди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ффектив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D48-7C2A-49BC-A429-0B88CD6907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978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Основные нормативно-правовые документы, определяющие формирование и реализацию экономических и финансовых механизмов регулирования охраны окружающей среды и природопользования (1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ституция Р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ждународные догов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овое законода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юджетное законода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родно-ресурсное и природоохранное законода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жданский коде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9A0-CA65-4098-BCEA-BB2E03646B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97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Основные нормативно-правовые документы, определяющие формирование и реализацию экономических и финансовых механизмов регулирования охраны окружающей среды и природопользования (2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рмативные акты Правительства РФ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рмативные акты федеральных ведомств финансово-экономического  и природно-ресурсного бл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шения судебных и надзорных орга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рмативные акты субъектов РФ и муниципальных образов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2D0-BB41-424D-9D88-B029910415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Конституция РФ (1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.9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Земля и другие природные ресурсы используются и охраняются в Российской Федерации как основа жизни и деятельности народов, проживающих на соответствующей террито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Земля и другие природные ресурсы могут находиться  частной, государственной, муниципальной и иных формах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A6C-33FA-42A6-82B1-B05FFBF61B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Конституция РФ (2)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.36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Граждане и их объединения вправе иметь в частной собственности зем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Владние, распоряжение и пользование землей и другими природными ресурсами  осуществляется их собственниками свободно, если это не наносит ущерба окружающей среде и не нарушает прав и законных интересов иных лиц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Условия и порядок пользования землей определяется на основе федеральных законов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645-207F-49E2-8862-6C9E8C9703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Конституция РФ (3)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.4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Каждый имеет право на благоприятную окружающую среду, достоверную информацию  ее состоянии и на возмещение ущерба, причиненного его здоровью или имуществу экологическим правонарушением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D59-6B28-4A90-AEA6-74BD39C522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Конституция РФ (4)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.7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В совместном ведении Российской Федерации и субъектов Российской Федерации наход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вопросы владения, пользования и распоряжения землей, недрами, водными и другими природными ресурс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)природополь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храна окружающей среды и обеспечение экологической безопас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бо охраняемые территории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)…земельное, водное законодательство, законодательство о недрах, об охране окружающе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37F-C39F-4505-95DB-1ADFF3B769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8:39:54Z</dcterms:created>
  <dc:creator>User</dc:creator>
  <dc:description/>
  <dc:language>en-US</dc:language>
  <cp:lastModifiedBy>shevchuk</cp:lastModifiedBy>
  <dcterms:modified xsi:type="dcterms:W3CDTF">2007-10-30T08:01:19Z</dcterms:modified>
  <cp:revision>32</cp:revision>
  <dc:subject/>
  <dc:title>      Российская академия государственной службы при Президенте РФ                                                         «Нормативно-правовые основы экономического и финансового регулирования охраны окружающей среды и природопользования» </dc:title>
</cp:coreProperties>
</file>