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11E0-3A78-415C-8950-4C3776AF2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A48-C7E3-460A-B39B-CD37B505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10E-7B38-4112-BE21-FBD9FB12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B47-3069-4220-8B4D-02CB2D4C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F8E-8A6F-49B3-BD3B-F72C5A8C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24A-E745-4615-A4B1-2219B72E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3E7-D6C5-4F51-8D56-F6BB6AF9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32D-C205-4169-9BE0-063719D5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A31-159E-4362-8AB2-65AF518A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71C-5E07-4ABC-B290-38C9BFC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283-E9E3-48D4-9BAD-8D2260F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CD6-0ECB-4B74-8F63-40F7085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0E7-BDAB-4763-9A4C-16ED2A6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6EB-E7DB-498E-81CB-2F15F6726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Российская академия государственной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лужбы при Президенте РФ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Платежи и налоги за природные ресурсы и  загрязнение окружающей среды</a:t>
            </a:r>
            <a:br>
              <a:rPr sz="3000"/>
            </a:br>
            <a:br>
              <a:rPr sz="1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5805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1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октября 2007 года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407664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вчук А.В., д.э.н., профессор кафедры экологии и управления природопольз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F07-9E8B-4E9E-834D-23DD35596D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нение платежей за  природопользовани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лата за природные ресурсы (включая налоги, сборы и арендную плату) - земля, недра, вода, лес, био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лата за природоресурс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лата за геологическую и экологическую эксперт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Компенсационные платежи за перевод лесных земель в неле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озмещение ущерба, нанесенного в результате нарушения природоохранного и природоресурс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латежи за негативное воздействие на окружающую ср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2DD-883A-411C-A090-636930D205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115920"/>
            <a:ext cx="525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та за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565360"/>
            <a:ext cx="1873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65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ормы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357720"/>
            <a:ext cx="180036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рендная плат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63700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242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ательщ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99736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07920"/>
            <a:ext cx="8569440" cy="1372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Цель введения платы за земл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 использования, охраны и освоения земель, повышение плодородия почв, выравнивание социально-экономических условий хозяйствования на землях разного качества, обеспечение развития инфраструктуры в населенных пунктах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Основание для  взимания платы за земл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-  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документ, удостоверяющий право собственности, владения или пользования (аренда) земельным участ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429000"/>
            <a:ext cx="2592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Организации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(предприя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учреждения)  независимо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их организационно-прав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форм и форм собств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Гражда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Российской Федер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иностранные граждане 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лица без гражданств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2492280"/>
            <a:ext cx="403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счисление платы за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2924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2924280"/>
            <a:ext cx="403236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емельный налог-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исчисляе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 % от кадастровой сто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земельного участка (0,3-1,5 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 зависимости от категории земель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4724280"/>
            <a:ext cx="4032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Арендная плата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--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размер, условия и с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внесения платы за землю устанавлива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догово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A65-D870-4761-86EA-A211F80331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189000"/>
            <a:ext cx="525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тежи при пользовании нед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916280"/>
            <a:ext cx="86421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844640"/>
            <a:ext cx="849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ормы платы  -  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разовые или  регулярные платежи за площадь лицензионного участка  не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907920"/>
            <a:ext cx="8785440" cy="100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Цель введения платы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 использования и охраны недр,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     сбор средств для финансирования работ по геологическому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     изучению недр, воспроизводству минерально-сырьевой ба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Основание для  взимания платеж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лицензия на пользование нед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2000" y="2565360"/>
            <a:ext cx="4392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лательщики -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предприятия (организации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индивидуальные предпринимате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осуществляющие недропользование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15772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85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4221000"/>
            <a:ext cx="471636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Предоставление прав 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оиск и оценку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разведку месторожд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олезных ископаемых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геологическое изучение и оценк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ригодности участков недр д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строительства и эксплуатации сооружени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не связанных с   добычей и пользова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недр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в иных целя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084640"/>
            <a:ext cx="4176720" cy="19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ступления средств  от платежей при пользовании недрами в федеральный бюдж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2007 г. – 27 млрд.руб. (оце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08 г. – 29 млрд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09 г. – 33 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млрд.руб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0 г. – 33 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млрд.руб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3141720"/>
            <a:ext cx="4176720" cy="18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боры за выдачу лиценз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бор за участие    в конкурсе (аукцион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плата за геологическую информацию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едр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плата за геологическую эксперти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зовые платежи за пользование недр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егулярные платежи за поль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ед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83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565360"/>
            <a:ext cx="18734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565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ид плате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3716280"/>
            <a:ext cx="3816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Объекты об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76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1FA-CD2B-4E88-B94B-B24FAAA5D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189000"/>
            <a:ext cx="64818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лог на добычу полезных ископаемых (НДП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00000" y="1125360"/>
            <a:ext cx="4103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Предприятия (организаци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индивидуальные предпринимате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осуществляющие недропользование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515772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085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4076640"/>
            <a:ext cx="338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Объекты налогооб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6237360"/>
            <a:ext cx="8785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ступление НДПИ  за 2006 г. в федеральный бюджет –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731,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лрд.руб.;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2060640"/>
            <a:ext cx="381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оимость добыт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езных ископаем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83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1844640"/>
            <a:ext cx="3024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оговая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565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4292640"/>
            <a:ext cx="410544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Полезные ископаем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извлеченные из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(потерь) добыва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производства (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соответствии с  лицензи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234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125360"/>
            <a:ext cx="324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лательщ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365720"/>
            <a:ext cx="4537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олезные ископаем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добытые   на участке нед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редставл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налогоплательщику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ользование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339640" y="4149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4149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2492280"/>
            <a:ext cx="25210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Налоговый пери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2565360"/>
            <a:ext cx="2376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вар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285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357720"/>
            <a:ext cx="2017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логовая ст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284640"/>
            <a:ext cx="6193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ависимости от вида полезного ископаемого от 3,8 до 16,5%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ля нефти – 437 руб. за тонну – до 1.01.07 г.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для газа – 135 руб. за 1000 куб. м - до 1.01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C8C-14C6-429D-9712-F184EBDDEE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189000"/>
            <a:ext cx="525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а за пользование лесн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276640"/>
            <a:ext cx="273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27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Вид плат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981000"/>
            <a:ext cx="8785440" cy="103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Цель введения платы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 использования и охраны лесных ресурсов, сбор средств для финансирования работ по охране и  воспроизводству ле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Основание для  взимания платежей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разрешительные документы, договор аренды лесного участка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 результаты лесных конкурсов и  аукцио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26920" y="2637000"/>
            <a:ext cx="4392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Плательщики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есопользователи,   которым предоставл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а пользования участками лесного фонд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а пользования участками ле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515772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085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860640"/>
            <a:ext cx="45370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Объекты налогообложения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ользование лесным фондом в целя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заготовки древесины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ользование лесным фондом в иных целя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724280"/>
            <a:ext cx="381636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ступления средств  от платежей за пользование лесными ресурсами в федеральный бюдж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06 г. – 9,6 млрд. руб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07 г. – 6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лрд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уб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08 г. – 15 млрд. руб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09 г. – 16 млрд. руб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10 г. – 17 млрд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924280"/>
            <a:ext cx="4141800" cy="165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атежи (лесные подати) и арен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ат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 пользование   лесным  фонд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части минимальных   ставок   платы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ревесину, отпускаемую на   кор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ата за перевод земель лесного фо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земли иных категор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83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5229360"/>
            <a:ext cx="453708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Форма взимания платежей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регулярные взносы   за единицу лес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ресурса, по отдельным видам лесопользования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за гектар находящихся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в пользов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участков лесного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фон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- арендная пл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2781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032-6E72-4202-8D55-3F8C2A3CB1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492280"/>
            <a:ext cx="3529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2276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Вид плат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052640"/>
            <a:ext cx="8642160" cy="79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Цель введения платы: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 использования и охраны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объектов   животного мира и     объектов   водных    биологических    ресурсов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Основание для  взимания платеж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-   лицензия (разрешение) на добыч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51280" y="2781360"/>
            <a:ext cx="5113440" cy="38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Плательщики:  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организации и физические лица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в том числе индивидуальные предпринимате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получающие в установленном поряд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лицензию (разрешение):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на пользование объектами животного мир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территории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на пользование объектами водных биол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ресурсов во внутренних водах, в территори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море,  на континентальном шельфе Россий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Федерации и в исключительной эконом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зоне Российской Федерации, а также в Азовс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Каспийском, Баренцевом морях и в райо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66cc"/>
                </a:solidFill>
                <a:latin typeface="Arial"/>
              </a:rPr>
              <a:t>архипелага Шпицберг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515772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085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4608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Arial"/>
              </a:rPr>
              <a:t>Объекты обложения: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объекты   живо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мира и     объекты   водных    биологических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ресурсов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4365720"/>
            <a:ext cx="3529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Поступления средств  от с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оров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в федеральный бюдж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2005г. -   5,5   млрд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2006г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66ff"/>
                </a:solidFill>
                <a:latin typeface="Arial"/>
              </a:rPr>
              <a:t>-   5,6 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млрд.руб. (прогно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141720"/>
            <a:ext cx="3529080" cy="100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боры за пользование объек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вотного мира и за поль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бъектами   водных  биологических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83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916280"/>
            <a:ext cx="381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Форма взимания платежей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- сб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89000"/>
            <a:ext cx="7775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боры за пользование объектами животного мир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 пользование объектами водных биологически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5D2-4B53-43E5-8BB5-61640D7B3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32000" y="0"/>
            <a:ext cx="6912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60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Развитие системы  платежей  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пользование водными объектами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7245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50760" y="7477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12160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1125360"/>
            <a:ext cx="100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0360" y="25653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716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2895480"/>
            <a:ext cx="2257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4500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2590920"/>
            <a:ext cx="172872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д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17080" y="4365720"/>
            <a:ext cx="302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505320"/>
            <a:ext cx="180036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а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равляем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восстано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 охрану вод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0384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300640"/>
            <a:ext cx="1066680" cy="337320"/>
          </a:xfrm>
          <a:prstGeom prst="rect">
            <a:avLst/>
          </a:prstGeom>
          <a:solidFill>
            <a:srgbClr val="fee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334120"/>
            <a:ext cx="1143000" cy="337320"/>
          </a:xfrm>
          <a:prstGeom prst="rect">
            <a:avLst/>
          </a:prstGeom>
          <a:solidFill>
            <a:srgbClr val="fee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2743200"/>
            <a:ext cx="21924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962520" y="3962160"/>
            <a:ext cx="22356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01000" y="1295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666880"/>
            <a:ext cx="1165320" cy="206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та 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ьз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124080"/>
            <a:ext cx="151128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т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ьз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д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79200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3657600"/>
            <a:ext cx="28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300640"/>
            <a:ext cx="1600200" cy="337320"/>
          </a:xfrm>
          <a:prstGeom prst="rect">
            <a:avLst/>
          </a:prstGeom>
          <a:solidFill>
            <a:srgbClr val="fee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-2006 г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19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1219320"/>
            <a:ext cx="1272960" cy="105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ек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200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219320"/>
            <a:ext cx="1660320" cy="107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логовы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ч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1219320"/>
            <a:ext cx="1903680" cy="107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З «О плате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д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2666880"/>
            <a:ext cx="1403280" cy="1079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л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3809880"/>
            <a:ext cx="1332000" cy="115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та 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говорам 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ьз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162920" y="3276360"/>
            <a:ext cx="20628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4114800"/>
            <a:ext cx="203040" cy="13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5080" y="5300640"/>
            <a:ext cx="863640" cy="337320"/>
          </a:xfrm>
          <a:prstGeom prst="rect">
            <a:avLst/>
          </a:prstGeom>
          <a:solidFill>
            <a:srgbClr val="fee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 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197000"/>
            <a:ext cx="2735280" cy="110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дный кодекс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995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F0F-9883-4E33-9ED9-6F28905C34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189000"/>
            <a:ext cx="525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одный налог (НК 2 ч., с 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220500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05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ормы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3141720"/>
            <a:ext cx="151308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Вод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220500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2205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лательщ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270828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907920"/>
            <a:ext cx="878544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Цель введения налога: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 использования, охраны и восстановления водных ресурсов, наполнение бюджта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Основание для  взимания платы за пользование водными объек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лицензия (договор) на право пользования водными объе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2997360"/>
            <a:ext cx="2305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Предприя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эконом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сектора, бюдже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орган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Частный пользовател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515772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085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3141720"/>
            <a:ext cx="4249800" cy="314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2133720"/>
            <a:ext cx="47545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Объекты налогообло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и налоговые ставки</a:t>
            </a: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292640"/>
            <a:ext cx="3961080" cy="21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ступления средств  от водного налога в  Ф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2005 -  13,8 млрд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2006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66ff"/>
                </a:solidFill>
                <a:latin typeface="Arial"/>
              </a:rPr>
              <a:t>-   14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,2 млрд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-    14,0 млрд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- 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13,6 млрд.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-   13,2 млрд.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-  12,8 млрд.руб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2997360"/>
            <a:ext cx="4680000" cy="36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Забор воды из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поверхностных водны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246,0-576,0  в рублях за 1 тыс.куб.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подземных водны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 300,0-678,0 в рублях за 1 тыс.куб.м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территориального моря и внутрен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морских вод (4,3-14,8 в рублях за  1 тыс. куб.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морской вод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Выработка электроэнерг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гидроэлектростанциями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4,8-13,7 в  рублях за 1 тыс.киловатт-ча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эл.энерг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Сплав леса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1183,2-1705,2 в рублях за 1 тыс.куб.м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Использование акватории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4,0 - 49,8  в рублях за 1 тыс.кв.к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83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4B1-88A8-4F56-8854-244E4658B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89000"/>
            <a:ext cx="7848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та за пользование водными объектами (новый ВК с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220500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205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ормы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924280"/>
            <a:ext cx="1728720" cy="15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Плата на осн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догов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водопользования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5640" y="220500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2205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лательщ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270828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907920"/>
            <a:ext cx="8785440" cy="1159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Цель введения платы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 использования, охраны и восстановления водных ресурсов, сбор средств для финансирования водохозяйственных и водоохранных меропри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Основание для  взимания платы за пользование водными объект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договор на право пользования водными объе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2997360"/>
            <a:ext cx="1800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Предприя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орган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Ч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пользовател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928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515772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085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3141720"/>
            <a:ext cx="4249800" cy="314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2133720"/>
            <a:ext cx="47545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Объекты обложения и ставки 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4653000"/>
            <a:ext cx="381636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Поступления средств  от платы за пользование водными объектами в ФБ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2007 – 0,5 млрд.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2008  -  1,8  млрд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2009. -  3,5 млрд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2010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-   5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,3 млрд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2997360"/>
            <a:ext cx="4680000" cy="36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Забор воды из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поверхностных водны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246,0-576,0  в рублях за 1тыс.куб.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территориального моря и внутрен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морских вод (4,3-14,8 в рублях за  1тыс. куб.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морской вод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Выработка электроэнер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гидроэлектростанциями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4,8-13,7 в  рублях за 1тыс.киловатт-ча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эл.энерг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Использование акватории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4,0 - 49,8  в рублях за 1 тыс.кв.к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83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CA4-68A5-4DBE-BD83-033E15F787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Поступление платы за водопользование и водного налога в 2000-2006 го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5280" y="1484280"/>
          <a:ext cx="80643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064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E67-FE54-47F2-B7D7-A46231043B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сновные вопросы занятия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Платежи и налоги за природ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Понятие - плата за природополь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Сущность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Цели взимания платы за природные 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Методология расчета платы за природные 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Правовая база платежей за пользование природными ресурс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Формы взимания платы за природные 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Применение платежей за  природополь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Поступления сборов и  платежей за пользование природными ресурсами в федеральный бюджет (2006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сновные недостатки действующей системы платежей за природные 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F99-4988-4412-A7BD-F7AE5DEE79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Нормативная правовая база взимания платы за пользование водными объект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1202400"/>
            <a:ext cx="828036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дный кодекс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14.12.2006 № 764 "Об утверждении Правил расчета и взимания платы за пользование водными объектами, находящимися в федеральной собственности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30.12.200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76 "Об утверждении ставок платы за пользование водными объектами, находящимися в федеральной собственности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каз Росводресурсов от 27.12.2006 №305 «Об администрировании поступлений платы за пользование водными объектам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2FC-85C3-4ABC-95F1-AFC7FB3D08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Прогноз доходов ФБ от использования вод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01760" y="907920"/>
          <a:ext cx="8339040" cy="58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907920"/>
                    <a:ext cx="833904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55E-7D83-4BAB-9521-F7F7807FB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Нормативы распределения средств платы за пользование водными объектами в бюджеты бюджетной системы РФ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ст.13 Федерального закона "О федеральном бюджете на 2007 год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) за пользование водными объектами, находящимися в федеральной собственности, -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100 процентов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в федеральный бюдже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) за пользование водными объектами, находящимися в собственности субъектов Российской Федерации, -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100 процентов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в бюджеты субъектов Российской Федера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) за пользование водными объектами, находящимися в собственности поселений, муниципальных районов, городских округов, -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100 процентов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в бюджеты соответствующих муниципальных образований в зависимости от права собственности на водные объект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904-71BC-4314-B818-AA664F759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ступления сборов и  платежей за пользование природными ресурсами в федеральный бюджет (2006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ог на ДПИ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31,6 млрд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ежи при пользовании недрами     -  20, 5 млрд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одный налог           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  14,2 млрд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Сбор за 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биоресурсами                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-    5,6 млрд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Платежи за пользование лес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фондом 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–   5,6 млрд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Плата за негативное воздействие        -    2, 5 млрд.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сего:                       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 779,6 млрд.руб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740-5651-4AA8-A95B-32996C6498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сновные недостатки действующей системы платежей за природн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48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сутствует законодательно закрепленное целевое направление использования собираемых от платы средств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редусмотрено аккумулирование  платы в специализированных фондах или наличие специальных бюджетных строк (средства поступают в бюджет и в соответствии с Налоговым кодексом не обязательно должны направляться на природоохранные и ресурсовосстановительные мероприят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ежи (за исключением платы за недра в части НДПИ) практически не учитывают рентный доход (сверхдоход, получаемый природопользователем за счет качества природного ресурса и не зависящий от хозяйственной деятельности предприят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ющие ставки платы не покрывают затраты, необходимые на проведение природоохранных и ресурсовосстанов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C54-BB82-446A-BCB1-0A49380278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7628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лата за загрязнение окружающей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BE1-BA6D-4AA6-9922-A64B359453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сновные вопросы занятия 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лата за загрязнение окруж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Понятие - платы за загрязнение окружающей среды, сущность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Цели взимания платы   за загрязнение окружающей среды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Методология расчета платы за загрязнение окружающей среды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Развитие платы за загрязнение окружающей среды, правовая база платежей за   загрязнение окружающей сред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Формы взимания платы за природные 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Применение платежей за  загрязнение окружающей среды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Поступления платы за загрязнение окружающей среды  в   бюджет (2006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Основные недостатки действующей системы платежей   за загрязнение окружающей среды и п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ерспектива системы платежей за загрязнение окружающей среды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4FE-2717-42D5-99DB-AA4AEDECDB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нятие - платы за загрязнение окружающей среды и цели ее взим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лата за загрязнение окружающей среды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– является формой частичной компенсацией государству ущерба, наносимого природопользователями загрязнением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Плата   за загрязнение окружающей среды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зимается с целью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стимулированию природопользователей к снижению техногенной нагрузки на окружающую среду и сбора средств на финансирование природоохранных мероприятий и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B83-3B12-4C52-B33B-8EB43ED724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Методология расчета платы за загрязнение окружающей среды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ормативы платы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за загрязнение окружающей среды определены на основе удельного экономического ущерба, наносимого тонной выбросов (сбросов) загрязняющих веществ и размещаемых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казатели удельного экономического ущерба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определялись исходя из затрат на компенсацию воздействия выбросов (сбросов) загрязняющих веществ и стимулирования снижения или поддержания выбросов (сбросов) загрязняющих веществ в пределах нормативов , а также затраты на проектирование и строительство природоохранных объе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CC3-897B-4BC8-B83A-DB754241D2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380880"/>
          <a:ext cx="8991720" cy="67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899172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0" y="138240"/>
            <a:ext cx="9144000" cy="8254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ccff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Развитие платы за загрязнение окружающей сре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990720"/>
            <a:ext cx="2057400" cy="138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он РСФСР «Об  охране окружающей природно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9.12.1991 № 2060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3733920"/>
            <a:ext cx="2057400" cy="733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а за сброс в водные объекты загрязняющих вещест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990720"/>
            <a:ext cx="2133360" cy="2438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28.08.1992 № 632 "Об утверждении Порядка определения платы и ее предельных размеров за загрязнение окружающей природной среды, размещение отходов, другие виды вредн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981440" cy="7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азовые нормативы платы, сроки перечисления пл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645080"/>
            <a:ext cx="2133720" cy="156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каз Минприроды России (27.11.1992, б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инприроды Росси и Минфина России (03.0.3.199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990720"/>
            <a:ext cx="1844640" cy="1159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едеральный закон «Об охране окружающей среды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0.01.2002 № 7-Ф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990720"/>
            <a:ext cx="1904760" cy="3930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 12.06.2003 №344 «О нормативных платах за выбросы в атмосферный воздух загрязняющих веществ стационарными и передвижными источниками, сбросы загрязняющих веществ в поверхностные и подземные водные объекты,размещение отходов производства и потребл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3886200"/>
            <a:ext cx="1828800" cy="13726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та за сбросы загрязняющих веществ в поверхностные и подземные водные объ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40000" y="63817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91 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003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0" y="5181120"/>
            <a:ext cx="1752480" cy="38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рмативы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590920"/>
            <a:ext cx="2057400" cy="733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а з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брос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тмосфер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яющих вещест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4876920"/>
            <a:ext cx="2057400" cy="52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а з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размещение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209680"/>
            <a:ext cx="1828800" cy="15858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та за выбросы в атмосферный воздух загрязняющих веществ стационарными и передвижными источ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5410080"/>
            <a:ext cx="1828800" cy="946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та за размещение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0A6-4E97-4AFE-BE1F-D2F8EE4EE7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нятие - плата за природополь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л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экономическая форма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реализации права государства, как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собственника природного ресурса,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на получение части дохода от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использования ресурса и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компенсации бюджетных затрат на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мероприятия по изучению, охране и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воспроизводству (восстановлению)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0BB-DD60-4848-A5EE-5F79DB281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иды негативного воздействия на окружающую сред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ФЗ «Об охране окружающей среды» 2002 г.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ыбросы в атмосферный воздух загрязняющих вещ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сбросы загрязняющих веществ в поверхностные водные объекты, подземные водные объекты и на водосборные площа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загрязнение недр, поч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азмещение отходов производства и потре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загрязнение окружающей среды шумом, теплом, электромагнитными, ионизирующими и другими видами физических воз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ные виды негативного воздействия на окружающую сре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0B2-EF63-4FF5-9113-A32D5AAF05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ормативные документы Правительства Р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280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Постановлением Правительства РФ от 28 августа 1992 г. № 632 (в редакции Постановлений Правительства РФ от 27 декабря 1994 г. № 1428, от 14 июня 2001 г. № 463)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Порядок определения платы и ее предельных размеров за загрязнение окружающей природной среды, размещение отходов, другие виды вредного воздействия»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 12.06.2003 №344 «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 нормативных платах за выбросы в атмосферный воздух загрязняющих веществ стационарными и передвижными источниками, сбросы загрязняющих веществ в поверхностные и подземные водные объекты, размещение отходов производства и потреб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599-3B56-41F7-AC01-701642EA83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едомственные нормативные  документ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труктивно-методические указания по взиманию платы за загрязнение окружающей природной среды (утверждено: Минприроды России, согласовано: Минэкономики России, Минфин России, зарегистрировано в Минюсте России 24.03.1993 г., регистрационный № 19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аз от 23 мая 2006 г. №459 "Об утверждении формы Расчета платы за негативное воздействие на окружающую среду и порядка заполнения и представления формы Расчета платы за негативное воздействие на окружающую среду" (зарегистрирован в Минюсте РФ 17 июля 2006г. № 80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аз от 3.08.2005 № 545 "Об утверждении Порядка постановки на учет плательщиков платы за негативное воздействие на окружающую среду в территориальных органах Федеральной службы по экологическому, технологическому и атомному надзору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A1C-3BD7-44E7-82DB-19B6352EC6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4000" y="1125360"/>
          <a:ext cx="8424720" cy="52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42472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24000" y="-120600"/>
            <a:ext cx="8569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на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х и фактических природоохранных инвестиций в основной капитал в Российской Федераци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в постоянных ценах, 1990 г. = 10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015-6353-4D75-A2B6-6E613C4CA0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0"/>
          <a:ext cx="9144000" cy="684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324000" y="1557360"/>
            <a:ext cx="8569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лата за загрязнение в пределах   установленных допустимых нормативов выбросов, сбросов, объема размещения отходов, уровней иных видов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лата за загрязнение в пределах установленных  лим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Пример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ыбросы: бензол 2 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 – 25 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бензапирен 2 мн.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 – 10 млн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автомобили от 0,4 руб. (газ за 1000 куб.) до 2,5 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т – диз.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бросы:    нефть 5,5 тыс.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  - 28 тыс.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енол 275 тыс.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 – 1,4 млн.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тходы:     от 0,4 (4 кл. опасности) до 1,8 тыс.руб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т (1 кл.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опас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40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Состав платежей за загрязнение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58C-9621-4E83-995D-6DA39BE460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850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5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Структура нормативов платы за загрязнение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124000" y="1628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213000"/>
            <a:ext cx="201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92000" y="1773360"/>
            <a:ext cx="28764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4365720"/>
            <a:ext cx="3744720" cy="215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ы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выбро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атмосфер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здух загрязн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ществ передвиж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точ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За ед.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1628640"/>
            <a:ext cx="22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2000" y="2060640"/>
            <a:ext cx="2952720" cy="2089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ы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сбросы загрязн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ществ в поверхностны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земные водные объ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4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2133720"/>
            <a:ext cx="3168360" cy="2138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ы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выбро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атмосфер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здух загрязн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ществ стационар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точ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6720" y="4508640"/>
            <a:ext cx="3888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ы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размещение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изводства и  потреб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5 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1628640"/>
            <a:ext cx="165600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BE2-BB85-4B73-B2B7-FFBFC556A9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атором платы за негативное воздействие на окружающую среду является Федеральная служба по экологическому, технологическому и атомному надз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F2F-65F3-4E3A-BD52-8F28BE3D11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бъемы поступлений в консолидированный бюджет платежей за загрязнение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Общий объем поступ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от платежей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– 12,5 млрд.ру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ение платеже между бюджетами разных уровн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деральный бюджет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20%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юджет субъекта РФ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40%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юджет муниципальных образований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–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A1E-6612-4847-91C9-4AEA949754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907920"/>
            <a:ext cx="8785440" cy="5875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Экологические нормативы нередко более жесткие, чем в развитых странах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Чрезмерный охват  – (число веществ и плательщиков), нет акцента на ключевых загрязняющих веществах и загрязнител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истема платежей не покрывает транспортные средства, принадлежащие частным физическим лицам, т.е. большую часть мобильных источ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изкий  уровень ставок (ниже предельных затрат на предотвращение/сокращение загрязнения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отиворечия в Законодательстве и его трактовке привели  к сомнениям относительно законности платежей и судебным коллизия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истема не стимулирует технологические инновации (предотвращение и сокращение загрязнения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189000"/>
            <a:ext cx="8353440" cy="43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сновные черты  системы платежей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за загрязнени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22F-C036-448D-AD32-6AAC509893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507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урегулирования вопросов взимания платы за негативное воздействие на окружающую среду необходим закон федераль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концепции законопроекта «О плате за негативное воздействие на окружающую среду», был рассмотрен Правительством РФ в марте 2005 год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, принятие полноценного закона решит все вопросы, возникающие у природопользователей в связи с осуществлением платы за загрязнение окружающ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DB8-2E04-47E2-9DDF-73A1BFEA8A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ущность платы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Плата за право пользование природным ресурсом (объект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8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доход (рента), взимаемы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государством для обеспечения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полнения бюджета и который не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зависит от финансово-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оизводственных показателе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деятельности природопользователя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F55-FD49-4C19-86E5-E47D2B8B1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ерспектива системы платежей за загрязнение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дготовлен проект нового федерального закона   "О плате за негативное воздействие на окружающую среду"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едусматривающ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ие правовой базы для взимания пл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мулирование внедрения новых технологий (сегодня предприятия остро нуждаются  в обновлении основных фондов), поэтому подобная мера  одним из  инструментов  модернизации и перехода на более совершенную технологию, позволяющую не только поднять качество продукции, но и снизить негативное воздействие на окружающую среду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E32-EA01-4E05-BACA-242D131388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ущность платы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Плата на охрану и воспроизводство природных ресурсов (объек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 компенсация затрат бюджетных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организаций, осуществляющих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мероприятия      мероприятия по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изучению, охране и воспроизводству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восстановлению) природных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ресурсов (объек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F52-84B6-4EE1-B26A-4E6D8D668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Цели взимания платы за природ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тимулирование рационального использования природ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нцентрация финансовых ресурсов, которые необходимы для поддержания бюджета, в том числе для обеспечения деятельности специализированных  бюджетных организаций по осуществлению мероприятий и программ по изучению, охране и воспроизводству (восстановлению) природ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ыравнивание социально-экономических условий хозяйствования при использовании природных ресурсов  разного ка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еспечение развития инфраструктуры в населенных пунктах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259-3999-4B23-82E4-52A704719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Методология расчета платы за природ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Плата за природный ресурс (объ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пределяется на основе экономических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ценок ресурса, включая его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ачественные и количественные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характеристики, а также затрат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еобходимых для обеспечения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еятельности специализированных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бюджетных организаций по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существлению    мероприятий и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ограмм по изучению, охране и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оспроизводству (восстановлению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иродного ресурса (объек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5CA-E0F1-4694-B95E-D4E7B9434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равовая база платежей за пользование природными ресур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природно-ресурсное и налоговое  законодательство  в части формирования правовой основы для установления налогов, платежей и сборов за пользование землей, недрами, лесом, водой и другими природными ресурсам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решения Правительства РФ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ведомственные акты Минфина России, МЭРТ России, МПР России, Минсельхозпрода России и иных федеральных орган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решения  органов государственной власти субъект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РФ и исполнительных органов муниципальных образова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09C-689C-48D0-A635-D101DBC582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ормы взимания платы за природ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Арендные 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омпесационные 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ски и штра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F3B-B63C-43FC-8D68-8CDBAD3F1C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07:07:10Z</dcterms:created>
  <dc:creator>vse</dc:creator>
  <dc:description/>
  <dc:language>en-US</dc:language>
  <cp:lastModifiedBy>User</cp:lastModifiedBy>
  <dcterms:modified xsi:type="dcterms:W3CDTF">2007-11-01T05:10:42Z</dcterms:modified>
  <cp:revision>121</cp:revision>
  <dc:subject/>
  <dc:title>Слайд 1</dc:title>
</cp:coreProperties>
</file>