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0D1C-1369-4558-AD79-FAF673E5A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DD4D-C039-4A6E-9C51-D213F0332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2D7E-4F7E-4923-AC7A-26E460DE5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45F4-72CD-4270-9ACD-B3A8641D0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FFBB-4867-4D1B-B26A-D730314DD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D189-AE10-42D4-8510-2BAC590A2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6929-7A7E-46B9-A456-F3AF6922A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BC05-0EEC-48E2-BB78-02BFC1E6D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40C0-9C2D-4192-9E89-88786F83D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F7ED-5C94-44E2-8F1E-B18F6CFA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5793-33B2-4620-9397-6B22A116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F2EF-E50C-4D8B-9A16-9D1E7E1D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67CEFCD-F3CE-431E-9A04-D96916D536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Трудовой договор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1360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глашение между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ботодателе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ботнико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соответствии с этим соглашением, определяются права, обязанности и ответственность сторон, согласованных при заключении трудового догов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Испытание при приёме на работ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 заключении ТД может быть предусмотрено  условие об испытании работника в целях проверки его соответствия поручаемой работ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Испытание не устанавливается дл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Лиц, избранных по конкурс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Лиц, не достигших возраста восемнадцати ле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Выпускников начальных, средних и высших проф. образовательных учреждений и впервые поступающ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на работ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Беременным женщинам и имеющим детей в возрасте до 1,5 ле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Приглашенных в порядке перево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Заключивших ТД на срок до двух месяц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Срок испыт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может превышать 3-х месяце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я руководителей организаций и их заместителей, главных бух-ров и их заместителей, руководителей филиалов ….. – шести месяце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 заключении ТД на срок от 2 до 6 месяцев – не может превышать 2 неде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Госслужащих от 3 до 12 месяце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Результат испыт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 неудовлетворительном результате испытания работодатель имеет право до истечения срока испытания расторгнуть ТД с работником, предупредив его об этом в письменной форме не позднее чем за 3 дня с указанием причин, послуживших основанием для эт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Изменение Т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менение условий ТД, в том числе перевод на другую работу, допускается только по соглашению сторон ТД, за исключением случаев предусмотренных Трудовым Кодексом РФ. Ст.7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Перевод на другую работу. Перемещение. Ст.72</a:t>
            </a:r>
            <a:r>
              <a:rPr b="0" lang="en-US" sz="4000" spc="-1" strike="noStrike" baseline="30000">
                <a:solidFill>
                  <a:srgbClr val="ff0066"/>
                </a:solidFill>
                <a:latin typeface="Arial"/>
                <a:ea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Перевод на другую работу – постоянное или временное изменение трудовой функции работника или структурного подразде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Не требует согласия работника перемещение его у того же работодателя на другое рабочее место, в другое структурное подразделение… если это не влечет за собой изменения определенных сторонами условий трудового догов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Временный перевод на другую работу. Ст.72</a:t>
            </a:r>
            <a:r>
              <a:rPr b="0" lang="en-US" sz="4000" spc="-1" strike="noStrike" baseline="30000">
                <a:solidFill>
                  <a:srgbClr val="ff0066"/>
                </a:solidFill>
                <a:latin typeface="Arial"/>
                <a:ea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соглашению сторон… работник может быть временно переведен на другую работу у того же работодателя на срок до одного го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мещение временно отсутствующего работника – до выхода этого работ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 одного месяца на необусловленную ТД работу: а) в случае катастроф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)в случае просто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1.Перевод…. в соответствии с медицинским заключением. ст.7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46120" y="188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сли работник нуждается во временном переводе на срок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до 4 месяцев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другую работу возможны вариан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согласен на  перево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отказывается от перевод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работа   отсутству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-3) заработная плата не начисля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2.Перевод…. в соответствии с медицинским заключением .ст.7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ботодатель обязан перевести работника по медицинским показаниям  на срок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более 4 месяце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согласен на  перево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отказывается от перевод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работа   отсутству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Д прекращается в соответствии с п.8 ст.77 ТК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3.Перевод…. в соответствии с медицинским заключение.ст.7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Д с руководителями или заместителями, гл.бухгалтерами, нуждающимися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во временном или постоянном перевод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по мед. показаниям: а) перевод на другую работу; б) прекращается; в) отстранить от работы без сохранения з/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Трудовой договор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индивидуальный акт, основанный на добровольных, правомерных действиях сторо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предметом соглашения является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человеческий тр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1.Изменение …условий ТД ст.7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причинам, связанным с изменением организационных или технологических условий труда,… допускается изменение условий ТД по инициативе работодате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упреждение за 2 меся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 отказе предлагать все вакан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 несогласии уволить п.7 ст.7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2.Изменение …условий ТД ст.7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причинам, связанным с изменением организационных или технологических условий труда,… допускается изменение условий ТД по инициативе работодате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учет мнения выборного проф.орга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ввести режим неполного раб.времени не более чем на шесть месяце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при отказе - увольнение по п.2 ст.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Смена собственника, изменение подведомственности или реорганиз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менение подведомственности (подчиненности) орг-и или её реорганизация (слияние, присоединение, разделение, выделение, преобразование) не может являться основанием для расторжения трудового договора с работниками организации. Ст.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Прекращение трудового догов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глашение сторон п.1 ст.7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течение срока ТД п.2 ст.77. Предупреждение за 3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торжение ТД по инициативе работника п.3 ст.7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1.Расторжение ТД по инициативе работодателя ст.8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ликвидация орган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сокращение численности или шт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несоответствие работника занимаемой должности … вследствие недостаточной квалифик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смена собственника имущества ор-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неоднократное неисполнение работником…труд. обязанностей, если он имеет дисциплинарные взыск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2.Расторжение ТД по инициативе работодателя в случаях ст.8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однократного грубого нарушения работником трудовых обязаннос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) прогу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) появления на работе… в состоянии алкогольного, наркотического или токсического опьян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) разглашения охраняемой законом тайн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) совершения по месту работы хищ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) установленных комиссией по охране тр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3.Расторжение ТД по инициативе работодателя в случаях ст.8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совершения виновных действий… если эти действия дают основания для утраты доверия (обслуживание денежных или товарных ценностей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совершение аморального проступ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 принятия необоснованного решения руководителем организации, его замом или гл. бухгалтер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однократного грубого нарушения руко-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предоставление подложных докум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. предусмотренных ТД с руководител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Прекращение ТД по обстоя-м, не зависящим от воли сторон ст. 8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призыв на военную служб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восстановление работника, ранее выполнявшего эту работ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неизбрание на долж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осуждение работни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полная потеря трудоспособ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смерть работни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наступление чрезвычайных обстоя-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дисквилификац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лишение работника специального пра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прекращение допуска к государственной тайн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.отмена решения суда или инспекции тру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Содержание Т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ТД указываю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амилия, имя, отчество работника и наименование работодател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ведения о документах работника и работодател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дентификационный номер налогоп-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ведения о лице, подписавшего Т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сто и дата заключения Т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0066"/>
                </a:solidFill>
                <a:latin typeface="Arial"/>
              </a:rPr>
              <a:t>Обязательные условия для включения в ТД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сто работ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удовая функц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ата начала работ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словия оплаты тру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жим рабочего времен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мпенсации за тяжелую работу и работу с вредными условиями тру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словия (подвижный, разъездной и т.д.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словия об обязательном социальном стр-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Дополнительные услов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точнение места работы (структурное подразделение и его местона-дении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 испытан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 неразглашении охраняемой законом тайн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 обязанностях работника (обучение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 видах и условиях дополнительного страхов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 правах и обязанностях сторон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Виды трудовых договоров (ст.58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.Д. с неопределенным сроком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рочный трудовой договор на срок до пяти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Д, заключенный на определенный срок при отсутствии достаточных к тому оснований, установленных судом, считается заключенным на неопределенный с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Вступление ТД в силу (ст.6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Д вступает в силу со дня его подписания, либо со дня фактического допущения работника к работе с ведома работода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сли работник не приступил к работе в день начала работы ….то работодатель имеет право аннулировать Т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Документы, предъявляемые при заключении трудового догов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спорт или иной документ, удостоверяющий личн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удовую книжк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аховое свидетельство государственного пенсионного страхо-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кумент об образован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Форма трудового договора (ст.67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Д заключается в письменной форме, составляется в двух экземплярах, каждый из которых подписывается сторон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лучение работником экземпляра ТД должно подтверждаться подписью работника на экземпляре ТД, хранящегося у работодате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user</cp:lastModifiedBy>
  <dcterms:modified xsi:type="dcterms:W3CDTF">2007-06-06T05:13:46Z</dcterms:modified>
  <cp:revision>5</cp:revision>
  <dc:subject/>
  <dc:title>98</dc:title>
</cp:coreProperties>
</file>