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4D9-1FB8-44E2-B3BB-A7F4F010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569-9845-4718-A495-CF157AA2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331-1878-4C2F-AB78-6EB697A6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3D1-0454-412D-9A84-11990A0B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691-DAF4-47FB-9127-30AF5420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188-B810-4660-960F-90F501E2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43F-69F8-4A25-A27C-86CF0166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8DF-2D78-487B-A49B-5A3234EF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6A3-79B2-49E6-8CA8-10E3BE9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5C4-61E6-46D0-9A71-BD11F10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92D-32EC-433F-841D-B294464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9E3-585F-42AF-92AB-2EF76F7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5EF8DB-9573-493B-9215-DECBC0F2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-108000"/>
            <a:ext cx="7772400" cy="63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ми задачами российского трудового законодательства является создание необходимых правовых условий для достижения оптимального согласования интересов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торон трудовых отношений и интересов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421000"/>
            <a:ext cx="820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Виды источников трудов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ия РФ. Международные а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деральные  зак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зы Президента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ановления Правительства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ы федеральных органов исполнитель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ы исполнительной власти субъектов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ы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кальные акты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Источники ТП классифицир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юридической силе – законы и подзаконные а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институтам трудового пра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рганам, принявшим нормативный ак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е – законы, указы, постановления, распоряжения, положения, решения, приказ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йствия – общефедеральные, республиканские, отраслевые, муниципальны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Система законодательства о труде  включ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тифицированные международно- правовые акты о труде, договоры и конвенции МОТ (принято – 75, ратифицировано – 50, действует – 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изнаки нормативного правового а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Издан управомоченным орган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Устанавливает правили п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Обязателен для неопр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е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го круга ли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Расчитан на неоднократное примен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Действует независимо от того, возникли или прекратились конкретные правоотно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РАБОТНИК          РАБОТОД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ое лиц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раст с 14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жданин РФ, иностранный гражданин, лицо без гражданства, не имеющий медицинских или иных противопоказаний к выполнению да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ридическое или физическое лицо, с которым работник состоит в трудовых правоотнош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ственник или его предста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08000" y="1050480"/>
            <a:ext cx="180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659640" y="1050480"/>
            <a:ext cx="1440" cy="43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Сфера действия Т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рагивает жизненные интересы работ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ывает влияние на другие отрасли права(гражданское, административно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активно развивающейся отрас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Трудовое право и гражданское пра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вязаны с тру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озникают в силу дого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осят возмезд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Предмет гражданского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мущественные отношения.        Выполняет отдельное задание, не включается в коллектив организации. Размер вознаграждения определяется соглашением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Предмет трудового пра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ые отношения, возникающие в процессе организации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ом является сам процесс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и выступают как члены коллекти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ют определенную трудов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чиняются правилам В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ают регулярно вознагра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Предмет трудового права - общественные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отношения, возникающие в процессе организаци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2340000"/>
            <a:ext cx="3421080" cy="3600360"/>
          </a:xfrm>
          <a:custGeom>
            <a:avLst/>
            <a:gdLst>
              <a:gd name="textAreaLeft" fmla="*/ 360 w 3421080"/>
              <a:gd name="textAreaRight" fmla="*/ 3420720 w 3421080"/>
              <a:gd name="textAreaTop" fmla="*/ 360 h 3600360"/>
              <a:gd name="textAreaBottom" fmla="*/ 3600000 h 3600360"/>
            </a:gdLst>
            <a:ahLst/>
            <a:rect l="textAreaLeft" t="textAreaTop" r="textAreaRight" b="textAreaBottom"/>
            <a:pathLst>
              <a:path w="21600" h="22732">
                <a:moveTo>
                  <a:pt x="10" y="0"/>
                </a:moveTo>
                <a:arcTo wR="10" hR="10" stAng="16200000" swAng="-5400000"/>
                <a:lnTo>
                  <a:pt x="0" y="22722"/>
                </a:lnTo>
                <a:arcTo wR="10" hR="10" stAng="10800000" swAng="-5400000"/>
                <a:lnTo>
                  <a:pt x="21590" y="22732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635200"/>
            <a:ext cx="313236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овые отнош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никающие между рабо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ком и работод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40360" y="2340000"/>
            <a:ext cx="3421080" cy="3421080"/>
          </a:xfrm>
          <a:prstGeom prst="roundRect">
            <a:avLst>
              <a:gd name="adj" fmla="val 4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2400" y="2921040"/>
            <a:ext cx="26686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тесно связанны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овыми)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78200" y="1079640"/>
            <a:ext cx="234288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1079640"/>
            <a:ext cx="216036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оизводные от трудовых отношений п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и и у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781360"/>
            <a:ext cx="345600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ональной подготов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подготовке у д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од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365720"/>
            <a:ext cx="3456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ю работников и их пред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вителей в установлен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и условий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589720"/>
            <a:ext cx="345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ешение трудовых сп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1773360"/>
            <a:ext cx="33130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ости и трудоустрой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852640"/>
            <a:ext cx="3240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му партнер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4076640"/>
            <a:ext cx="3240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ьной  ответств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сти работников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од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522936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зору и контролю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м труд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нод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Основные принципы трудов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а труда, запрещение принудительного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ство прав и возможностей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права каждого работника на своевременную и в полном размере выплату справедлив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та от безработицы, содействие в трудоустро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права каждого на здоровые и безопасные услов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права работников и работодателей на объед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Метод трудового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очетание централизованного и локального, нормативного и договорного регул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работников и их представителей в установлении условий труда и контроль за их соблюд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динство и дифференциация правового регулирован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орной характер труда, установления его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етание отношений равенства сторон и обязанность подчиняться законодательству и правилам внутреннего трудового рас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фические способы защиты трудовы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3</dc:creator>
  <dc:description/>
  <dc:language>en-US</dc:language>
  <cp:lastModifiedBy>УМК</cp:lastModifiedBy>
  <dcterms:modified xsi:type="dcterms:W3CDTF">2007-10-30T08:59:27Z</dcterms:modified>
  <cp:revision>5</cp:revision>
  <dc:subject/>
  <dc:title>Предмет трудового права Отношения, возникающие в процессе реали</dc:title>
</cp:coreProperties>
</file>