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0A6-AAA3-4C81-8FF6-E129D8AA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8E7-D3B9-47A4-A118-AF466A35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3C79-88CC-4F1A-A177-71FF0524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0BC-F930-452E-ABE3-7C77E2E8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FC7-BF8E-4163-A147-1ABB48CF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ED7-865D-48B6-B214-B5CCD3C8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2B3-D2AD-41AA-A894-64270397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AB0-AB1D-4842-89A2-C8AA08C3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5291-84FE-4E49-BFDF-D5BDFFD1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F9F0-42F3-405A-86CE-1B31087C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7AF5-7F94-4814-851C-84588F45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798F-2C70-405E-B828-EF94F302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F58B-9623-4FA2-B18D-5374EABE2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ловек , его права и свободы являются высшей ценностью. Признание, соблюдение и защита прав и свобод человека и гражданина – обязанность государства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ст.2 Конституции РФ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дивидуальные трудовые споры рассматриваются комиссиями по трудовым спорам и суд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-41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Образование КТ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уется по инициативе работников или работод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ставители работодателя назначаются, работников – избира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иссия из своего состава избирает председателя, заместителя и его секрет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иссия имеет свою печ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.384 ТК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Компетенция КТ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видуальный трудовой спор рассматривается комиссией по трудовым спорам, если работник самостоятельно или с участием своего представителя не урегулировал разногласия при непосредственных переговорах с работода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Срок обращения в КТ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ник может обратиться в КТС в трехмесячный срок со дня, когда он узнал или должен был узнать о нарушении своего п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лучае пропуска по уважительным причинам установленного срока КТС может его восстано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Алгоритм разрешения индивидуального Т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Подача заявления в КТ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Регистрация заявления в КТ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Рассмотрение спора – 10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Кворум на заседании – 50% /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Ведение протокола и его оформ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Принятие решения – тайное голосование 50%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Вручение копий решения – 3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Исполнение решения КТС – через 13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Принудительное исполнение через судебного пристава – 3 меся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Рассмотрение спора в су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42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Коллективный Т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неурегулированные разногласия между работниками и работодателями по поводу установления и изменения условий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533340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римирительные процед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отрение коллективного трудового спора в целях его разрешения примирительной комиссией, с участием посредника и (или) в трудовом арбитра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День начала коллективного трудового сп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нь сообщения решения работодателя (его представителя) об отклонении всех или части требований рабо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1. Алгоритм разре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Выдвижение требований на собрании, кворум 50% + 1 и направление их в письменной форме работода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Ответ в письменной форме – 3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Примирительная комиссия – 3 дня + 5 дней на её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Протокол заседания или протокол разноглас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2. Алгоритм разре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Посредник – 3 дня + 7 д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Трудовой арбитраж – 3 дня + 5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Решение о забастовке – собрание (конференция), кворум 2/3 от общего числа работников (делега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Предупреждение  работодателя – 10 календарных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Предупреждение Службы по урегулированию коллективных споров – работод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Забаст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Государственная защита прав и свобод человека и гражданина в РФ гарантируется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каждый вправе защищать свои права и свободы всеми способами, не запрещенными законами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ст.45 Конституции РФ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298120"/>
            <a:ext cx="640080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Забаст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енный добровольный отказ работников от исполнения трудовых обязанностей (полностью или частично) в целях разрешения коллективного трудового сп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пособы защиты трудовых пра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ый надзор и контроль за соблюдением трудового законода-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союзный контроль за соблюдением трудового законода-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защита работниками трудовых п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жалование в с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ешение индивидуальных и коллективных трудовых сп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Органы государственного надзора и контроля за соблюдением трудового закон-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куратур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деральная инспекция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деральная служба по техническому надз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деральная служба по атомному надз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санэпиднадзор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энергонадзор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фессиональные союзы имеют право на осуществление контроля за соблюдением трудового законодатель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141720"/>
            <a:ext cx="83516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одатели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обязан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недельный срок с момента получения требования об устранении выявленных нарушений сообщить соответствующему профсоюзному органу о результатах рассмотрения требования и принятых ме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Формы защиты трудовых пра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аз от выполнения работы, не предусмотренной Т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аз от выполнения работы, угрожающей жизни или здо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остановка работы в случае задержки выплаты заработной платы на срок более 15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аз от преждевременного выхода на работу из от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1. Понятие и классификация трудовых сп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68360" y="220500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по предмету сп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573360"/>
            <a:ext cx="295272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ры о прав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3573360"/>
            <a:ext cx="302436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ры об интере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411280" y="2637000"/>
            <a:ext cx="223200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2637000"/>
            <a:ext cx="201636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2. Понятие и классификация трудовых сп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по субъек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3068640"/>
            <a:ext cx="3311640" cy="23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19640" y="2924280"/>
            <a:ext cx="324000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лек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31640" y="1989000"/>
            <a:ext cx="208764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19640" y="1989000"/>
            <a:ext cx="18734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Индивидуальный Т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урегулированные разногласия между работодателем и работником … о которых заявлено в орган по рассмотрению трудовых сп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.381 ТК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3:18:01Z</dcterms:created>
  <dc:creator>user</dc:creator>
  <dc:description/>
  <dc:language>en-US</dc:language>
  <cp:lastModifiedBy>user</cp:lastModifiedBy>
  <dcterms:modified xsi:type="dcterms:W3CDTF">2007-10-04T06:35:02Z</dcterms:modified>
  <cp:revision>3</cp:revision>
  <dc:subject/>
  <dc:title>Человек , его права и свободы являются высшей ценностью. Признание, соблюдение и защита прав и свобод человека и гражданина – обязанность государства (ст.2 Конституции РФ)</dc:title>
</cp:coreProperties>
</file>