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FEC-6BBA-463B-BDE6-2A136A9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A6A-A340-4509-AEAA-50219A13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A88-852F-43F6-A6EA-15908A2A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7C1-32B1-4B86-BAE6-6A0C9CF1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B13-65E5-4CB4-8379-D0781F3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E15-FCF5-44E9-BA59-479E17A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A2E-2ADD-45A8-B12F-6894FC5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78C-E1B0-4A53-8E64-F18F9B1E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A9B-2219-4902-A5EC-CEBB63C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F10-7FC7-47E5-AE33-822A90B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147-5C25-485F-807B-DA69509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ECB-63B4-42F8-9526-9DC1E26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678A-22D3-4C37-8C92-C306E93E2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cc0000"/>
                </a:solidFill>
                <a:latin typeface="Arial"/>
              </a:rPr>
              <a:t>Дисциплина труда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язательное для всех подчинение правилам поведения, определенным ТК РФ, иными законам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ллективным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говором, трудовым договором, локальными нормативными 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Дисциплинарные взыск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нарушение = 1 взыск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2160720"/>
            <a:ext cx="287964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ч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9280" y="2160720"/>
            <a:ext cx="252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гов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2160720"/>
            <a:ext cx="270036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ольнение по соотве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вующим основа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1.Алгоритм применения взыск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528560"/>
            <a:ext cx="9072360" cy="54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ыявление противоправного поведения раб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Установление вины работника в совершенном проступ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лучение от работника объяснения в письменной форме. </a:t>
            </a:r>
            <a:r>
              <a:rPr b="0" lang="en-US" sz="3200" spc="-1" strike="noStrike">
                <a:solidFill>
                  <a:srgbClr val="b84700"/>
                </a:solidFill>
                <a:latin typeface="Arial"/>
              </a:rPr>
              <a:t>(Был ли факт нарушения; какова вина нарушителя; обстоятельства нарушения, его причины; отношения работника к нарушению; отношение работника к дальнейшей работ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ри отказе работника от дачи объяснения – составление а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.Алгоритм применения взыск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Издание приказа о применении  взыскания (не позднее 1 месяца со дня обнаружения проступка и не позднее 6 месяцев со дня совершения проступка, не считая времени болезни, нахождения в отпус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Объявление работнику приказа под расписку в течение трех рабочих дней со дня его и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При отказе работника подписать приказ – составление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бстоятельства, смягчающие наказ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ршение проступка впер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//- по неосторо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//- несовершеннолетним, беременной жен-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//- малозначительность вр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//- чистосердечное раскаяние и его сотрудничество с администрацией в расследовании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бстоятельства, отягчающие ответ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днократность совершения проступ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ышленные действия наруши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яние наркотического или токсического опья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ытка скрыть факт нару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 от сотрудничества при расслед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влечение в совершение нарушения других работников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236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Дисциплинарная ответственность руководителя организации или структурного подразделения, их за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9640" y="2480760"/>
            <a:ext cx="9072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одатель обязан рассмотреть заявление представительного органа работников о нарушении руководителями трудового законод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факты подтвердятся – дисциплинарное взыскание вплоть до уволь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нятие дисциплинарного взыск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в течение года со дня применения дисциплинарного взыскания он не будет подвергнут новому, то он считается не имеющим дисциплинарного взыск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одатель имеет право снять взыскание досро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Дисциплина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лужеб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финансов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рудов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оизводствен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ехнологическ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720" y="539640"/>
            <a:ext cx="907236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Правовые методы обеспечения дисциплины труда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пособы, предусмотренные законодательством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500360"/>
            <a:ext cx="4427640" cy="21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беждение (поощр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1600" y="4500360"/>
            <a:ext cx="4427280" cy="21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уждение (наказ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158560" y="3060720"/>
            <a:ext cx="25225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0000" y="3060720"/>
            <a:ext cx="216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сновные обязанности ст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чно выполнять свою трудовую функцию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совестно исполнять трудовые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о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людать законы, иные нормативные акты, условия договоров и согла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ять работникам работу, обусловленную Т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сновные обязанности ст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людать ПВТР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ять установленные нормы труд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людать требования по охране труда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56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ивать здоровые и безопасные условия 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ивать работников исправным оборудованием, создавать условия, необходимые для выполнения ими своих обяза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сновные обязанности ст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жно относится к имуществу работодателя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и себя достойно, воздерживаться от действий, препятствующим другим работникам добросовестно работать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евременно и в полном объеме выплачивать заработную пл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и коллективные переговоры и заключать коллективные договор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иды поощрений за успехи в тру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именяемые работодате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ъявление благод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ыдача пре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граждение Почетной грам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несение в Книгу поче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2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рименяемые Правительством РФ, министерствами и ведомствами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четная грамота Правительств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грудный знак «Почетный работник» отра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Государственные наг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вание Героя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граждение орденами и меда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исвоение почетных званий Российской Федераци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кук куукук</dc:creator>
  <dc:description/>
  <dc:language>en-US</dc:language>
  <cp:lastModifiedBy>user</cp:lastModifiedBy>
  <dcterms:modified xsi:type="dcterms:W3CDTF">2007-10-02T06:36:42Z</dcterms:modified>
  <cp:revision>2</cp:revision>
  <dc:subject/>
  <dc:title>Дисциплина труда –</dc:title>
</cp:coreProperties>
</file>